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F0A-C0A9-40B2-A567-F752688C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ADD-130E-4C6C-A23D-AFC2BFEF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9BE-4987-4BA1-9367-5ACDC684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326-87B0-47DC-952B-91B5AB34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A36-DF4A-4719-A63E-D5682D7A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0A1-DE50-40F0-8C81-EB88224F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4C6-72E4-453E-8652-CDF7A0B8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0E2-D45A-4A2E-B3E9-FEE6F232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949-93A1-464C-9DD7-1BC764B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5C1-FB59-4C6D-8392-C7385A7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7A7-5B31-427B-BB32-E6EB507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FF9-137B-4B0E-86ED-BF1176F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231A-A99E-41BB-8525-1C49E287AC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505320" y="457200"/>
            <a:ext cx="1218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2577"/>
                </a:solidFill>
                <a:latin typeface="Lucida Sans"/>
              </a:rPr>
              <a:t>Luigi Zingales University of Chic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2577"/>
                </a:solidFill>
                <a:latin typeface="Lucida Sans"/>
              </a:rPr>
              <a:t>29 marzo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4572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2577"/>
                </a:solidFill>
                <a:latin typeface="Lucida Sans"/>
              </a:rPr>
              <a:t>Costi e benefici  della regolamen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sti e benefici della regolament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uigi Zing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University of Chic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sti della Regolament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sto di “complianc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uanto costa alle imprese americane mettersi in regola con la Sarbenes Oxl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gidità della regola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estiti delle imprese ai dirig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piazzamento della risposta del merc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opo gli scandali, imprese sotto pressione per fare qualcosa, la regolamentazione spiazza la risposta priv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 -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ambio obbligatorio dei revisori ogni 5 a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sto stima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30% in piu’ nei primi due a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$1.2 miliardi l’a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enefic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durre l’incidenza di frodi societa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sto stimato recenti frodi societarie negli USA: $460 mili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sto medio annuo  $4.6 mili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&gt; regola giustificata se ricambio obbligatorio riduce la probabilità di uno scandalo almeno del 26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26*4.6&gt; 1.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 Principali Costi di Trans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immetrie inform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blemi nel far rispettare la leg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pletamento dei vuoti contrattu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azionalità limitat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1) Asimmetrie informative 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tutti dispongono delle stesse informaz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imprese hanno un incentivi a rivelare tutte le informazioni che possiedono se e solo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vestitori sanno che le imprese sono piu’ infor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rese non possono ment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rese non sopportano costi nel rivelare questa inform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1) Asimmetrie informative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potesi spesso vio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formazione offerta dal mercato e’ insuffici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mpio spazio per giustificare obblighi di trasparenza imposti per leg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: Negli USA commissioni di vendita di fondi di tipo dive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Altri vantaggi di una trasparenza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mposta per leg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iu’ facile/economico verificarne la veridicit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enefici della standard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duce la cattura dei media da parte delle impr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2) Problemi nel far rispettare la legge 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sti fissi delle cause leg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proporzionati per gli investitori in società a capitale diffu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articolarmente vero per paesi dove gli avvocati non possono essere pagati in funzione del risultato del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&gt; necessità di proteggere i piccoli investit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2) Problemi nel far rispettare la legge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sponsabilità limit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duce le possibilità di “punire” le imprese che sbagl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quisiti minimi di capitale e assicurazione preventiva possono ridurre i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 riducono fortemente le possibilità di ent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3) Completamento dei vuoti contrattu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tratti sono incompl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ossibile/troppo costoso prevedere tutto contrat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on e’ un problema se le parti possono rinegoziare ex 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fficile rinegoziare con azionisti dispe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mposizione di “default rules” può aiu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: uso di deriv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otiv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gli ultimi anni abbiamo assistito a numerosi scandali nel settore finanzi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esto ha creato una forte domanda di  maggiore regolamentazione in questo set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’ possibile valutare da un punto di vista teorico se i mercati finanziari necessitino di maggiore regolamentazion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4) Razionalità limit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videnza empirica che “default option” hanno effetti enormi sul comportamento degli agenti econom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che quando il default può essere cambiato senza c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e deve essere scelto il defaul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modo “paternalistic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: piani pensionistici volont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Differenza tra Regolamentazione Ideale e Reale 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golamentazione reale influenzata dal processo poli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paga per l’elettore medio informars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sti di informazione ele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eneficio mi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&gt; Difficile immaginare che l’intervento statale avvenga nell’interesse del cittadino me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Differenza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imprese direttamente interessate han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inform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inter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influire sul processo di regola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ttura del regolatore da parte dei regola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stors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favore delle imprese esist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svantaggio della concor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iclo politico 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fficile approvare nuove regole in periodi di b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omanda limi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rese piu’ interessate ad espande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iu’ facile in periodi di reces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omanda cres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rese piu’ “protezionist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iclo politico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3 effetti negativ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umento dei sussidi impliciti nella regol. (a favore degli “incumbent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co tempo per studiare il fenom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piazza la risposta del merc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’ Applicazione 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rporate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) Effetto della regolamentazione es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imiti legali alla concentrazione azion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ias legale a favore dei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ggi antitakeo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) Guardiamo ai costi di transazione rilevan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’ Applicazione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immetrie inform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bblighi di trasparen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esare le stock options in bilan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 annuncio delle vendite di azioni da parte de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sti limi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che giustificazioni per non impor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’ Applicazione 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2) Contro le frodi societarie il meccanismo “privato” della causa legale si dimostra ineffica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oppo costoso da appli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esponsabilita’ limitata ne riduce l’effic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&gt;Necessità di un organismo di cont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 non basta (vedi scanda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ternative cost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proposta di un premio per i denunzianti civ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’ Applicazione 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3) I managers hanno troppo pot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fficile da rinegozi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iustificazione per imporre delle “default rules” dive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pprovazione diretta dei salari dei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acilitare l’inserimento di consiglieri proposti da azioni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abilire un canale di informazione diretta tra consiglieri di amministrazione e societ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’ Applicazione -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che direzione vanno le riforme real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Congresso ha bloccato una direttiva volta  a spesare l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nfasi sui consiglieri indipendenti (molto poca evidenza empir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audit committee nomina la società di revi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Anticipazione delle conclusioni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’ facile argomentare a favore di maggiori obblighi di trasparen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caso a favore di altre forme di regolamentazione e’ piu’ diffic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sti di compli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gidità della regola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piazzamento della risposta del merca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ononostante importanti aree di intervento possono essere individu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’ Applicazione -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deve sorprendere che le riforme approvate vadano spesso in direzione contra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managers usano i soldi degli azionisti per fare lobby contro gli interessi degli azionisti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a Semplice Proposta 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nfluenza degli incumbents sul processo politico si fonda sui costi di inform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paga per il cittadino medio diventare infor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ridurre il potere degli incumbents bisogna ridurre i costi di informazione  sui costi e benefici della regola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a Semplice Proposta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questo motivo propongo la creazione di un organismo di controllo della regola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posto a  stim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x ante: i costi di compli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x post: i benefici prodotti dalla regolamentazion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impatto sulla concor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a Semplice Proposta 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effetto sarebbe ampliato se venisse inserito un obbligo di specificare in tutte le proposte di leg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li obiettivi da conseg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meccanismo economico con cui si intendono conseguire quest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: la riduzione delle tasse approvata da Bu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a Semplice Proposta 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organismo simile esiste negli USA per stimare gli impegni di bilancio di ogni nuova leg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mi illudo che questo cambi il m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 può ridurre un po’ l’influenza delle imprese regolate sui regolator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sto: molto limi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nclusioni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 illustrato come il problema della regolamentazione debba essere affrontato dal punto di vista teo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 questa analisi emerge ch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istono fondati motivi per imporre obblighi di trasparenza piu’ sev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gli altri tipi di regolamentazione l’analisi costi-benefici e’ piu’ comples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nclusioni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ue proposte sembrano avere bassi costi e alti benef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 premio per i “denunzianti civici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le nuove default option di diritto societario piu’ a favore degli azion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urtroppo le pressioni politiche vanno in direzione contrari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nclusioni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ridurre la differenza tra regolamentazione ideale e regolamentazione reale propongo un organismo di controllo della regolament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e stimi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 benef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 l’impatto sulla concor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Anticipazione delle conclusioni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4. Ma quali garanzie abbiamo che il sistema politico produca la regolamentazione ottimal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torsioni del processo poli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5. Una semplice proposta per ridurre le distorsioni introdotte dalla politica nel processo di regolament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Outline 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i errori dell’approccio tradizionale alla regolament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approccio moderno alla regolament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enef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differenze tra regolamentazione ideale e regolamentazione re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Outline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licazione al problema di corporate gover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semplice proposta per ridurre la differenza tra regolamentazione ideale e regolamentazione re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’approccio tradizion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esistenza di un’ esternalita’ giustifica l’intervento sta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: Le vecchie locomotive a vapore emettevano scintille che potevano scatenare un incendio nei campi circos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ferrovia non “internalizza” il danno prodot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&gt; necessità di un intervento sta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a Critica di Coase -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ché il mercato non internalizz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 questo caso (come in molti altri) effetto della regolamentazione pre-esist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roblema va riformulato in termini di “diritto ad inquina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assenza di costi di transazione, il mercato internalizzera’ tutte le esternalita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a Critica di Coase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&gt; Esiste una spazio per la regolamentazione solo laddove i costi di transazione sono eleva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cessità di comparare i benefici della regolamentazione con i suoi c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ordando 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quantità ottimale di violazioni non e’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09:48:12Z</dcterms:created>
  <dc:creator> </dc:creator>
  <dc:description/>
  <dc:language>en-US</dc:language>
  <cp:lastModifiedBy>Borsa Italiana S.p.A.</cp:lastModifiedBy>
  <cp:lastPrinted>2004-03-29T05:59:38Z</cp:lastPrinted>
  <dcterms:modified xsi:type="dcterms:W3CDTF">2004-03-29T06:10:49Z</dcterms:modified>
  <cp:revision>43</cp:revision>
  <dc:subject/>
  <dc:title>Costi e benefici della regolamentazione</dc:title>
</cp:coreProperties>
</file>