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3.png" ContentType="image/png"/>
  <Override PartName="/ppt/media/image8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81520" y="-360"/>
            <a:ext cx="297000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3680" cy="365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81520" y="9261360"/>
            <a:ext cx="297000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AFCE05-F76E-4410-AB18-C909AFCC6D4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81520" y="9261360"/>
            <a:ext cx="297000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ED2B2B-44B4-44A7-AAF7-BCC192ED2FA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81520" y="-360"/>
            <a:ext cx="297000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000080" y="73656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881520" y="9261360"/>
            <a:ext cx="297000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3B3F0E-628E-4E55-8786-F7587C07A78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81520" y="-360"/>
            <a:ext cx="297000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000080" y="73656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1520" y="9261360"/>
            <a:ext cx="297000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303937-3520-441B-AB3B-AA9537EF3D4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1520" y="-360"/>
            <a:ext cx="297000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00080" y="73656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81520" y="9261360"/>
            <a:ext cx="297000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8769CC-DBA3-4315-B872-0E2B656B538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81520" y="-360"/>
            <a:ext cx="297000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00080" y="73656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1520" y="9261360"/>
            <a:ext cx="297000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9965DC-F9CC-4B09-A836-FD0ADEB8D7B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1520" y="-360"/>
            <a:ext cx="297000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9480" y="84924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633560"/>
            <a:ext cx="50227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1520" y="9261360"/>
            <a:ext cx="297000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7E202E-A22C-4990-808E-0C32CF158C7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1520" y="-360"/>
            <a:ext cx="297000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000080" y="73656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1520" y="9261360"/>
            <a:ext cx="297000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D50531-04E5-4CAC-B9B2-8BD96008158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81520" y="-360"/>
            <a:ext cx="297000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00080" y="73656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1520" y="9261360"/>
            <a:ext cx="297000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D48BE1-FEB1-4C01-ADE3-26670A7AB2A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1520" y="-360"/>
            <a:ext cx="297000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00080" y="73656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354744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1440" y="16765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35474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1440" y="35474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7160" y="16765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2560" y="16765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35474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7160" y="35474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2560" y="35474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1760" y="16765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904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61440" y="1676520"/>
            <a:ext cx="3904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1760" y="152280"/>
            <a:ext cx="8001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61440" y="1676520"/>
            <a:ext cx="3904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1760" y="35474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16765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904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440" y="16765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61440" y="35474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61440" y="16765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54744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1760" y="354744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61440" y="16765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35474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61440" y="35474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7160" y="16765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72560" y="167652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1760" y="35474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7160" y="35474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72560" y="3547440"/>
            <a:ext cx="257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904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1440" y="1676520"/>
            <a:ext cx="3904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152280"/>
            <a:ext cx="8001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1440" y="1676520"/>
            <a:ext cx="3904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35474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904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1440" y="16765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1440" y="354744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1440" y="1676520"/>
            <a:ext cx="3904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3547440"/>
            <a:ext cx="80010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6765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a9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a9d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1250"/>
              </a:spcAft>
              <a:buClr>
                <a:srgbClr val="084aa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a9d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spcAft>
                <a:spcPts val="1250"/>
              </a:spcAft>
              <a:buClr>
                <a:srgbClr val="8c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a9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spcAft>
                <a:spcPts val="1250"/>
              </a:spcAft>
              <a:buClr>
                <a:srgbClr val="004a9d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a9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a9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a9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168C-7423-4304-8E26-823D39A69AA0}" type="slidenum">
              <a:rPr b="0" lang="it-IT" sz="18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3206880" y="6413400"/>
            <a:ext cx="50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d4d4d"/>
                </a:solidFill>
                <a:latin typeface="Verdana"/>
              </a:rPr>
              <a:t>ras asse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9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84aad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a9d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c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a9d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4a9d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004a9d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a9d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4a9d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a9d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4a9d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a9d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2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2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100" spc="-1" strike="noStrike">
                <a:solidFill>
                  <a:srgbClr val="ffffff"/>
                </a:solidFill>
                <a:latin typeface="Verdana"/>
              </a:rPr>
              <a:t>Certificazione di una ‘ Global Firm ’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4120" y="2742840"/>
            <a:ext cx="3504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Marisa Adam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Milano, 11 Giugno 200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2606760" y="6008760"/>
            <a:ext cx="50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ras asse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 concetti fondamentali degli standard GI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4a9d"/>
                </a:solidFill>
                <a:latin typeface="Verdana"/>
              </a:rPr>
              <a:t>Ente Gestore</a:t>
            </a: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: il vero responsabile e fautore del processo decisionale di gestione.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4a9d"/>
                </a:solidFill>
                <a:latin typeface="Verdana"/>
              </a:rPr>
              <a:t>Compositi</a:t>
            </a: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: aggregati nei quali devono essere inclusi tutti i portafogli gestiti (soggetti a commissione e discrezionali) definiti secondo una strategia e/o obiettivo comune di investimento.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4a9d"/>
                </a:solidFill>
                <a:latin typeface="Verdana"/>
              </a:rPr>
              <a:t>Integrità dei dati di input</a:t>
            </a: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: è considerata cruciale ai fini di un’accurata e veritiera presentazione delle performance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4a9d"/>
                </a:solidFill>
                <a:latin typeface="Verdana"/>
              </a:rPr>
              <a:t>Metodologie di calcolo e presentazione condivise</a:t>
            </a: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: per consentire la comparabilità nel tempo e tra gestori diversi.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4a9d"/>
                </a:solidFill>
                <a:latin typeface="Verdana"/>
              </a:rPr>
              <a:t>Piena informativa</a:t>
            </a: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: per una rappresentazione veritiera e completa delle performance.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4a9d"/>
                </a:solidFill>
                <a:latin typeface="Verdana"/>
              </a:rPr>
              <a:t>Acquisizione di nuove unità</a:t>
            </a: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 : sono previste regole relative all’incorporazione (“portability”) delle serie storiche delle unità acquisite 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l processo globale di investimen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Gli standard Gips richiedono che l’ente gestore sia l’effettivo responsabile e fautore del processo decisionale di investimento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Richiedono quindi che il processo decisionale  riconducibile all’ente gestore sia formalizzato e sia verificabile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 composi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Gli standard richiedono che i compositi siano definiti secondo una strategia e/o obiettivo comune di investimento ed un comune profilo di rischio 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Per la “global firm” è importante che la matrice dei compositi rifletta il processo decisionale e lo stile di gestione, salvaguardando le specificità locali, in modo da ottenere una presentazione veritiera dell’ente gestore ed assicurare la coerenza e la comparabilità nel tempo dei risultati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La definizione dei compositi deve quindi rappresentare un giusto equilibrio tra numerosità e significatività e deve essere tale da consentire la rappresentazione dei risultati di gestione della “Firm” relativamente alla diverse classi di attivo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Verdana"/>
              </a:rPr>
              <a:t>La matrice dei composi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6868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 criteri di attribuzione dei portafogli ai composi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Il processo di investimento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globale, implementato localmente in modo coerente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locale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Il tipo di processo: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Growth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Value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Core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Quantitativo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Area geografica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Mondo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Europa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Classi di attivo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Money Market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Obbligazionario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Convertibili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Azionari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Bilanciati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SzPct val="114286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Specificazioni …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 criteri di attribuzione dei benchmark ai composi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4a9d"/>
                </a:solidFill>
                <a:latin typeface="Verdana"/>
              </a:rPr>
              <a:t>Portafogli attribuiti allo stesso composito, con strategie di investimento simili, possono avere benchmark differenti: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Indici differenti (es. Lehman o Salomon, Msci o FT, ecc.)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Limitate differenze nell’asset allocation (es. 15%  o 20% azioni)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4a9d"/>
                </a:solidFill>
                <a:latin typeface="Verdana"/>
              </a:rPr>
              <a:t>Il benchmark attribuito è unico ed è scelto secondo criteri di coerenza relativamente al profilo di rischio/rendimento del composito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Acquisizione di nuove unit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4a9d"/>
                </a:solidFill>
                <a:latin typeface="Verdana"/>
              </a:rPr>
              <a:t>L’incorporazione di nuove unità (Pimco, Dresdner) nella “global firm” richiede un’analisi particolarmente accurata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4a9d"/>
                </a:solidFill>
                <a:latin typeface="Verdana"/>
              </a:rPr>
              <a:t>Gli standard Gips prevedono che: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nel caso di acquisizione di una società “non compliant”, l’ente gestore ha un anno di tempo per adeguare la nuova realtà agli standard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particolare enfasi viene posta al concetto di “portability” delle performance della società acquisita, in quanto deve essere preservata l’integrità e la continuità della strategia che definisce il composito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112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sono dettate regole precise che devono essere tutte contemporaneamente soddisfatte per consentire l’incorporazione della serie storica delle performance della società acquisita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 vantaggi degli Standard GIPS - l’esperienza 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a9d"/>
                </a:solidFill>
                <a:latin typeface="Verdana"/>
              </a:rPr>
              <a:t>Oggi costituiscono nei confronti della clientela istituzionale un vantaggio competitivo (ma fra cinque anni rappresenteranno solo un requisito minimo necessario, come negli USA).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a9d"/>
                </a:solidFill>
                <a:latin typeface="Verdana"/>
              </a:rPr>
              <a:t>Auspichiamo un rapido ampliamento in Italia e all’estero del numero di gestori conformi agli Standard per consentire una competizione corretta e trasparente.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a9d"/>
                </a:solidFill>
                <a:latin typeface="Verdana"/>
              </a:rPr>
              <a:t>Aiutano a razionalizzare i processi aziendali.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 i lati negativi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a9d"/>
                </a:solidFill>
                <a:latin typeface="Verdana"/>
              </a:rPr>
              <a:t>Si tratta di un processo costoso.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Il caso RAM: il contes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00"/>
              </a:spcBef>
              <a:spcAft>
                <a:spcPts val="1001"/>
              </a:spcAft>
              <a:buSzPct val="1286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Ras Asset Management SGR nasce nel luglio 1998 dalla trasformazione di Gestiras, società di gestione di fondi comuni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spcAft>
                <a:spcPts val="1001"/>
              </a:spcAft>
              <a:buSzPct val="1286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ed  estende la propria attività anche ai portafogli assicurativi, ai portafogli dei fondi pensione e degli investitori istituzionali.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spcAft>
                <a:spcPts val="1001"/>
              </a:spcAft>
              <a:buSzPct val="1286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Il patrimonio in gestione triplica passando da 7.7 mld. di euro a 22.5 mld. di euro.      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spcAft>
                <a:spcPts val="1001"/>
              </a:spcAft>
              <a:buSzPct val="1286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Contemporaneamente nasce anche Allianz Asset Management  (poi Allianz Pimco Asset Management ed oggi Allianz Dresdner Asset Management) e si consolida l’impegno del gruppo Allianz nel settore del risparmio gestito.   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0680" y="159840"/>
            <a:ext cx="760860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Il caso RAM: il contes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914400"/>
          <a:ext cx="7958160" cy="500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795816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31920" y="915840"/>
            <a:ext cx="8354880" cy="487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7720" y="151920"/>
            <a:ext cx="7773840" cy="5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Il gruppo ALLIANZ : il contes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939960"/>
            <a:ext cx="8458200" cy="487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97000" y="1081080"/>
          <a:ext cx="7885080" cy="446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00" y="1081080"/>
                    <a:ext cx="788508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5852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4aad"/>
                </a:solidFill>
                <a:latin typeface="Verdana"/>
              </a:rPr>
              <a:t>AAM-Group investment employe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6477120"/>
            <a:ext cx="119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84aad"/>
                </a:solidFill>
                <a:latin typeface="Times New Roman"/>
              </a:rPr>
              <a:t>As at 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24520" y="2055960"/>
            <a:ext cx="6728040" cy="3912840"/>
            <a:chOff x="1424520" y="2055960"/>
            <a:chExt cx="6728040" cy="3912840"/>
          </a:xfrm>
        </p:grpSpPr>
        <p:pic>
          <p:nvPicPr>
            <p:cNvPr id="102" name="WELTKARTE%20Standorte%20AAM%20gesamt" descr=""/>
            <p:cNvPicPr/>
            <p:nvPr/>
          </p:nvPicPr>
          <p:blipFill>
            <a:blip r:embed="rId2"/>
            <a:stretch/>
          </p:blipFill>
          <p:spPr>
            <a:xfrm>
              <a:off x="2117520" y="2227320"/>
              <a:ext cx="4880520" cy="27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056560" y="3716280"/>
              <a:ext cx="921240" cy="22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1263ae"/>
                  </a:solidFill>
                  <a:latin typeface="Times New Roman"/>
                </a:rPr>
                <a:t>EURO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Athe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Lond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Mi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Mun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Par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Vien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Zur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20520" y="2689200"/>
              <a:ext cx="932040" cy="169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1263ae"/>
                  </a:solidFill>
                  <a:latin typeface="Times New Roman"/>
                </a:rPr>
                <a:t>ASI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Hong Ko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Seou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Singap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Sydn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Toky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24520" y="2055960"/>
              <a:ext cx="1181880" cy="21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1263ae"/>
                  </a:solidFill>
                  <a:latin typeface="Times New Roman"/>
                </a:rPr>
                <a:t>AMERICA </a:t>
              </a:r>
              <a:br>
                <a:rPr sz="1400"/>
              </a:br>
              <a:r>
                <a:rPr b="1" lang="en-GB" sz="1400" spc="-1" strike="noStrike">
                  <a:solidFill>
                    <a:srgbClr val="1263ae"/>
                  </a:solidFill>
                  <a:latin typeface="Times New Roman"/>
                </a:rPr>
                <a:t>(US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Bos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Dall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Newport Bea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New Y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Seatt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San Die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492120" y="5413320"/>
          <a:ext cx="3156120" cy="822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120" y="5413320"/>
                    <a:ext cx="31561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685800" y="121932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4aad"/>
                </a:solidFill>
                <a:latin typeface="Times New Roman"/>
              </a:rPr>
              <a:t>More than 74 research-analysts, 277 portfolio managers and 48 traders world-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7720" y="152280"/>
            <a:ext cx="77738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Il gruppo ALLIANZ : il cont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Il gruppo ALLIANZ : il contes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4a9d"/>
                </a:solidFill>
                <a:latin typeface="Verdana"/>
              </a:rPr>
              <a:t>Nel corso del mese di luglio 2000 l’Allianz Asset Management Group - uno dei primi “global player”- ha ottenuto l’attestazione di conformità agli standard GIPS da parte di Deloitte &amp; Touche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  <a:p>
            <a:pPr marL="267480" indent="-267480"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4a9d"/>
                </a:solidFill>
                <a:latin typeface="Verdana"/>
              </a:rPr>
              <a:t>Il processo che ha portato all’ottenimento della certificazione è durato un anno ed ha coinvolto tutte le unità del gruppo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  <a:p>
            <a:pPr marL="267480" indent="-267480"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4a9d"/>
                </a:solidFill>
                <a:latin typeface="Verdana"/>
              </a:rPr>
              <a:t>In ogni entità giuridica del gruppo, l’intera società è stata coinvolta nel processo: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  <a:p>
            <a:pPr lvl="1" marL="579240" indent="-222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alta direzione e team di gestori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lvl="1" marL="579240" indent="-222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performance measurement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lvl="1" marL="579240" indent="-222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back office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lvl="1" marL="579240" indent="-222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CED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lvl="1" marL="579240" indent="-222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lvl="1" marL="579240" indent="-22284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responsabile clientela istituzionale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lvl="1" marL="57924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Perché adottare i gli standard di presentazione delle performance GIP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4a9d"/>
                </a:solidFill>
                <a:latin typeface="Verdana"/>
              </a:rPr>
              <a:t>Obiettivo del Gruppo Allianz: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Presentare alla propria clientela istituzionale -effettiva e potenziale, locale o globale- i risultati di gestione del Gruppo calcolati secondo criteri e modalità uniformi.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4a9d"/>
                </a:solidFill>
                <a:latin typeface="Verdana"/>
              </a:rPr>
              <a:t>Dichiarazione di intenti dei GIPS :</a:t>
            </a: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“</a:t>
            </a: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Gli standard globali devono tradursi in una presentazione delle performance degli investimenti chiara ed accettabile e che (1) riporti in maniera prontamente confrontabile i risultati dei vari gestori, indipendentemente dalla loro ubicazione geografica e ...”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Gli standard GIPS costituiscono la modalità operativa con cui raggiungere l’obiettiv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914400"/>
          <a:ext cx="3657600" cy="5867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14400"/>
                    <a:ext cx="3657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343400" y="914400"/>
          <a:ext cx="3720960" cy="5600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914400"/>
                    <a:ext cx="372096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e modifiche organizza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9d"/>
                </a:solidFill>
                <a:latin typeface="Verdana"/>
              </a:rPr>
              <a:t>La decisione di adottare gli standard comporta inevitabilmente la costituzione di apposite strutture dedicate alla gestione ed al coordinamento degli standard stessi a livello locale ed internazionale: </a:t>
            </a:r>
            <a:endParaRPr b="0" lang="en-US" sz="1800" spc="-1" strike="noStrike">
              <a:solidFill>
                <a:srgbClr val="004a9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un </a:t>
            </a:r>
            <a:r>
              <a:rPr b="0" i="1" lang="it-IT" sz="1600" spc="-1" strike="noStrike">
                <a:solidFill>
                  <a:srgbClr val="004a9d"/>
                </a:solidFill>
                <a:latin typeface="Verdana"/>
              </a:rPr>
              <a:t>team locale</a:t>
            </a: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 incaricato dell’implementazione e manutenzione degli standard all’interno di ogni unità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un </a:t>
            </a:r>
            <a:r>
              <a:rPr b="0" i="1" lang="it-IT" sz="1600" spc="-1" strike="noStrike">
                <a:solidFill>
                  <a:srgbClr val="004a9d"/>
                </a:solidFill>
                <a:latin typeface="Verdana"/>
              </a:rPr>
              <a:t>comitato di coordinamento internazionale</a:t>
            </a: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 al quale partecipano i responsabili degli standard Gips di ciascuna unità locale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Un responsabile internazionale (the </a:t>
            </a:r>
            <a:r>
              <a:rPr b="0" i="1" lang="it-IT" sz="1600" spc="-1" strike="noStrike">
                <a:solidFill>
                  <a:srgbClr val="004a9d"/>
                </a:solidFill>
                <a:latin typeface="Verdana"/>
              </a:rPr>
              <a:t>Gips Manager</a:t>
            </a: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) che coordina le diverse unità, interagisce con il verificatore e riporta al comitato internazionale le istanze provenienti dal comitato di coordinamento internazionale 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Un comitato internazionale (the </a:t>
            </a:r>
            <a:r>
              <a:rPr b="0" i="1" lang="it-IT" sz="1600" spc="-1" strike="noStrike">
                <a:solidFill>
                  <a:srgbClr val="004a9d"/>
                </a:solidFill>
                <a:latin typeface="Verdana"/>
              </a:rPr>
              <a:t>Steering Committee</a:t>
            </a:r>
            <a:r>
              <a:rPr b="0" lang="it-IT" sz="1600" spc="-1" strike="noStrike">
                <a:solidFill>
                  <a:srgbClr val="004a9d"/>
                </a:solidFill>
                <a:latin typeface="Verdana"/>
              </a:rPr>
              <a:t>) che valuta e decide in merito alle proposte del responsabile internazionale</a:t>
            </a:r>
            <a:endParaRPr b="0" lang="en-US" sz="1600" spc="-1" strike="noStrike">
              <a:solidFill>
                <a:srgbClr val="004a9d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33:38Z</dcterms:created>
  <dc:creator>KS Stefano Kihlgren</dc:creator>
  <dc:description/>
  <dc:language>en-US</dc:language>
  <cp:lastModifiedBy>AM Marisa Adamo</cp:lastModifiedBy>
  <cp:lastPrinted>2002-06-10T11:57:32Z</cp:lastPrinted>
  <dcterms:modified xsi:type="dcterms:W3CDTF">2002-06-10T12:09:10Z</dcterms:modified>
  <cp:revision>206</cp:revision>
  <dc:subject/>
  <dc:title>Presentazione della società</dc:title>
</cp:coreProperties>
</file>