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829-E9A3-403F-BAF4-BFE9F6DF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019-DB2B-4F04-9DB4-0200E6AF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403-F1C8-4FDA-8D98-0259C0D3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363C-6457-4B31-A5AA-FD339B84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109-A1C4-42BA-BB13-54257DEE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791C-4027-47B7-8676-3C3953A5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9C3-79D4-4FA6-8306-0A5A0106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713F-5D41-48D5-BE5A-E80A178F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F8E9-12D8-4F5C-8D38-5DCEC4AB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BDB-F208-45DF-B5B4-FC2D67A6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CE4-CD1C-45AB-AFDB-4BD0CE87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3D6-0305-4EF6-B557-C14ED4E9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59a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384E-1268-49D2-842F-D0A3D6AB9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 rot="10800000">
          <a:off x="7391520" y="6324480"/>
          <a:ext cx="1600200" cy="45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7391520" y="6324480"/>
                    <a:ext cx="160020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59a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Global Investment Performance Stand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ahoma"/>
              </a:rPr>
              <a:t>Il cammino verso il “Gold Standa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36840" y="1098720"/>
            <a:ext cx="268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609480"/>
            <a:ext cx="3139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ahoma"/>
              </a:rPr>
              <a:t>Daniele F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ahoma"/>
              </a:rPr>
              <a:t>IIPC-Pioneer Inves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59a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Commissione italiana per i G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Viene costituita nel 1997 ad opera di ABI, AIAF, Assogestio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Il suo compito è di elaborare una versione italiana dei Gip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Nel 1999 rende nota la prima TG itali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59a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Prima edizione della TG ital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Traduzione fedele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delle sezioni del  testo internazionale (Dati di input, Costruzione dei compositi, Calcolo dei rendimenti, Presentazione delle performance, Informativa, Verifich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Appendice A: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esempio di presentazione delle performance conforme ai GIP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Appendice B: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approfondimento algoritmi di calcolo (metodologie time-weighted e money-weighte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Appendice C: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spiegazione del concetto di discrezionalità promosso dai GIP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Appendice D: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prima versione della formula Assogestioni di lordizzazione delle quote di fondi comuni di diritto italian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Appendice E: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analisi delle implicazioni dell’ introduzione dell’ Euro nella costruzione e presentazione delle serie storich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Appendice F: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comparazione dei GIPS con gli AIMR-PPS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59a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Italian Investment Performance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Viene costituito nel 200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Ai membri fondatori della precedente Commissione Italiana si affiancano Assirevi, Mefop, Isi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Nel 2001 l’ IIPC elabora una seconda versione della TG itali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59a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Seconda edizione della TG ital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Traduzione fedele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delle sezioni del  testo internazionale (Dati di input, Costruzione dei compositi, Calcolo dei rendimenti, Presentazione delle performance, Informativa, Verifich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Appendice A: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esempio di presentazione delle performance conforme ai GIP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Appendice B: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nuova versione della formula Assogestioni di lordizzazione delle quote dei fondi comuni di diritto itali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59a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Sviluppi rec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Termine 2001: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invio della TG italiana al Country Standard Sub- Committe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Il CSSC , in seguito ad un dibattito sull’ Appendice relativa al modello di lordizzazione, propone all’ IIPC di rivedere la possibilità di elaborare una CV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28 Febbraio 2002: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riunione tra membri dell’ IIPC e del CSSC ed accordo definitivo sulla CV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Marzo 2002: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elaborazione della CVG italian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59a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IPPS: Versione Italiana dei G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Premessa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sull’applicazione dei GIPS a livello loca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Traduzione fedele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delle sezioni del  testo internazionale (Dati di input, Costruzione dei compositi, Calcolo dei rendimenti, Presentazione delle performance, Informativa, Verifich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Sezione 6 :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obblighi e raccomandazioni sulla lordizzazione delle performan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Appendice A: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esempio di presentazione delle performance conforme ai GIPS ed esempio di presentazione di performance lordizzate conforme agli IPP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Appendice B: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modello Assogestioni di lordizzazione delle quote di fondi comuni di diritto itali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59a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4648320" y="1817640"/>
            <a:ext cx="4345920" cy="4277880"/>
            <a:chOff x="4648320" y="1817640"/>
            <a:chExt cx="4345920" cy="4277880"/>
          </a:xfrm>
        </p:grpSpPr>
        <p:sp>
          <p:nvSpPr>
            <p:cNvPr id="299" name=""/>
            <p:cNvSpPr/>
            <p:nvPr/>
          </p:nvSpPr>
          <p:spPr>
            <a:xfrm>
              <a:off x="4653360" y="1817640"/>
              <a:ext cx="43383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66"/>
                  </a:solidFill>
                  <a:latin typeface="Tahoma"/>
                </a:rPr>
                <a:t>Tavola 2.I costi dell’adesione: tanto più bassi quanto maggiore l’autoregolament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648320" y="2742840"/>
              <a:ext cx="4345920" cy="3352680"/>
              <a:chOff x="4648320" y="2742840"/>
              <a:chExt cx="4345920" cy="335268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4648320" y="2742840"/>
                <a:ext cx="4343400" cy="3352680"/>
                <a:chOff x="4648320" y="2742840"/>
                <a:chExt cx="4343400" cy="33526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7545600" y="4977720"/>
                  <a:ext cx="1446120" cy="111744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300" spc="-1" strike="noStrike">
                      <a:solidFill>
                        <a:srgbClr val="000066"/>
                      </a:solidFill>
                      <a:latin typeface="Tahoma"/>
                    </a:rPr>
                    <a:t>-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58080" y="4977720"/>
                  <a:ext cx="1487520" cy="111744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300" spc="-1" strike="noStrike">
                      <a:solidFill>
                        <a:srgbClr val="000066"/>
                      </a:solidFill>
                      <a:latin typeface="Tahoma"/>
                    </a:rPr>
                    <a:t>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654800" y="4977720"/>
                  <a:ext cx="1403280" cy="111744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300" spc="-1" strike="noStrike">
                      <a:solidFill>
                        <a:srgbClr val="000066"/>
                      </a:solidFill>
                      <a:latin typeface="Tahoma"/>
                    </a:rPr>
                    <a:t>Si aderisce per autoregolamentazion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545600" y="3860280"/>
                  <a:ext cx="1446120" cy="111708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300" spc="-1" strike="noStrike">
                      <a:solidFill>
                        <a:srgbClr val="000066"/>
                      </a:solidFill>
                      <a:latin typeface="Tahoma"/>
                    </a:rPr>
                    <a:t>-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058080" y="3860280"/>
                  <a:ext cx="1487520" cy="111708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300" spc="-1" strike="noStrike">
                      <a:solidFill>
                        <a:srgbClr val="000066"/>
                      </a:solidFill>
                      <a:latin typeface="Tahoma"/>
                    </a:rPr>
                    <a:t>++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654800" y="3860280"/>
                  <a:ext cx="1403280" cy="111708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300" spc="-1" strike="noStrike">
                      <a:solidFill>
                        <a:srgbClr val="000066"/>
                      </a:solidFill>
                      <a:latin typeface="Tahoma"/>
                    </a:rPr>
                    <a:t>Si aderisce per obbligo imposto dall’esterno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654800" y="2742840"/>
                  <a:ext cx="1403280" cy="111744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654800" y="2742840"/>
                  <a:ext cx="4336920" cy="0"/>
                </a:xfrm>
                <a:prstGeom prst="line">
                  <a:avLst/>
                </a:prstGeom>
                <a:ln cap="sq"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654800" y="3860280"/>
                  <a:ext cx="433692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654800" y="4977720"/>
                  <a:ext cx="433692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654800" y="6095520"/>
                  <a:ext cx="4336920" cy="0"/>
                </a:xfrm>
                <a:prstGeom prst="line">
                  <a:avLst/>
                </a:prstGeom>
                <a:ln cap="sq"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648320" y="2742840"/>
                  <a:ext cx="0" cy="3352680"/>
                </a:xfrm>
                <a:prstGeom prst="line">
                  <a:avLst/>
                </a:prstGeom>
                <a:ln cap="sq"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058080" y="2742840"/>
                  <a:ext cx="0" cy="335268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545600" y="2742840"/>
                  <a:ext cx="0" cy="335268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991720" y="2742840"/>
                  <a:ext cx="0" cy="3352680"/>
                </a:xfrm>
                <a:prstGeom prst="line">
                  <a:avLst/>
                </a:prstGeom>
                <a:ln cap="sq"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654800" y="2742840"/>
                  <a:ext cx="1403280" cy="1117440"/>
                </a:xfrm>
                <a:prstGeom prst="line">
                  <a:avLst/>
                </a:prstGeom>
                <a:ln cap="rnd"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6171480" y="3045960"/>
                <a:ext cx="13878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66"/>
                    </a:solidFill>
                    <a:latin typeface="Tahoma"/>
                  </a:rPr>
                  <a:t>Struttura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66"/>
                    </a:solidFill>
                    <a:latin typeface="Tahoma"/>
                  </a:rPr>
                  <a:t>interna debo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708320" y="3065040"/>
                <a:ext cx="12859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66"/>
                    </a:solidFill>
                    <a:latin typeface="Tahoma"/>
                  </a:rPr>
                  <a:t>Struttur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66"/>
                    </a:solidFill>
                    <a:latin typeface="Tahoma"/>
                  </a:rPr>
                  <a:t> </a:t>
                </a:r>
                <a:r>
                  <a:rPr b="1" lang="it-IT" sz="1300" spc="-1" strike="noStrike">
                    <a:solidFill>
                      <a:srgbClr val="000066"/>
                    </a:solidFill>
                    <a:latin typeface="Tahoma"/>
                  </a:rPr>
                  <a:t>interna for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152280" y="1752480"/>
            <a:ext cx="4366800" cy="4343400"/>
            <a:chOff x="152280" y="1752480"/>
            <a:chExt cx="4366800" cy="4343400"/>
          </a:xfrm>
        </p:grpSpPr>
        <p:sp>
          <p:nvSpPr>
            <p:cNvPr id="321" name=""/>
            <p:cNvSpPr/>
            <p:nvPr/>
          </p:nvSpPr>
          <p:spPr>
            <a:xfrm>
              <a:off x="228600" y="1752480"/>
              <a:ext cx="41148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66"/>
                  </a:solidFill>
                  <a:latin typeface="Tahoma"/>
                </a:rPr>
                <a:t>Tavola 1. La qualità dei Gips:massima quando sia gestori che investitori ne condividono la filosof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152280" y="2731680"/>
              <a:ext cx="4366800" cy="3364200"/>
              <a:chOff x="152280" y="2731680"/>
              <a:chExt cx="4366800" cy="336420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152280" y="2731680"/>
                <a:ext cx="4343400" cy="3364200"/>
                <a:chOff x="152280" y="2731680"/>
                <a:chExt cx="4343400" cy="33642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3048120" y="4978080"/>
                  <a:ext cx="1447560" cy="111780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300" spc="-1" strike="noStrike">
                      <a:solidFill>
                        <a:srgbClr val="000066"/>
                      </a:solidFill>
                      <a:latin typeface="Tahoma"/>
                    </a:rPr>
                    <a:t>Alta qualità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300" spc="-1" strike="noStrike">
                      <a:solidFill>
                        <a:srgbClr val="000066"/>
                      </a:solidFill>
                      <a:latin typeface="Tahoma"/>
                    </a:rPr>
                    <a:t>Non si può “barare”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600200" y="4978080"/>
                  <a:ext cx="1447920" cy="111780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300" spc="-1" strike="noStrike">
                      <a:solidFill>
                        <a:srgbClr val="000066"/>
                      </a:solidFill>
                      <a:latin typeface="Tahoma"/>
                    </a:rPr>
                    <a:t>Bassa qualità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300" spc="-1" strike="noStrike">
                      <a:solidFill>
                        <a:srgbClr val="000066"/>
                      </a:solidFill>
                      <a:latin typeface="Tahoma"/>
                    </a:rPr>
                    <a:t>Minori possibilità di “barare”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52280" y="4978080"/>
                  <a:ext cx="1447920" cy="111780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300" spc="-1" strike="noStrike">
                      <a:solidFill>
                        <a:srgbClr val="000066"/>
                      </a:solidFill>
                      <a:latin typeface="Tahoma"/>
                    </a:rPr>
                    <a:t>Elevata cultura dell’investitor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048120" y="3849480"/>
                  <a:ext cx="1447560" cy="112860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300" spc="-1" strike="noStrike">
                      <a:solidFill>
                        <a:srgbClr val="000066"/>
                      </a:solidFill>
                      <a:latin typeface="Tahoma"/>
                    </a:rPr>
                    <a:t>Alta qualità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300" spc="-1" strike="noStrike">
                      <a:solidFill>
                        <a:srgbClr val="000066"/>
                      </a:solidFill>
                      <a:latin typeface="Tahoma"/>
                    </a:rPr>
                    <a:t>Possibilità di “barare”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600200" y="3849480"/>
                  <a:ext cx="1447920" cy="112860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300" spc="-1" strike="noStrike">
                      <a:solidFill>
                        <a:srgbClr val="000066"/>
                      </a:solidFill>
                      <a:latin typeface="Tahoma"/>
                    </a:rPr>
                    <a:t>Bassa qualità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300" spc="-1" strike="noStrike">
                      <a:solidFill>
                        <a:srgbClr val="000066"/>
                      </a:solidFill>
                      <a:latin typeface="Tahoma"/>
                    </a:rPr>
                    <a:t>Possibilità di “barare”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52280" y="3849480"/>
                  <a:ext cx="1447920" cy="112860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300" spc="-1" strike="noStrike">
                      <a:solidFill>
                        <a:srgbClr val="000066"/>
                      </a:solidFill>
                      <a:latin typeface="Tahoma"/>
                    </a:rPr>
                    <a:t>Bassa cultura dell’investitor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52280" y="2731680"/>
                  <a:ext cx="1447920" cy="111780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52280" y="2741400"/>
                  <a:ext cx="4343400" cy="0"/>
                </a:xfrm>
                <a:prstGeom prst="line">
                  <a:avLst/>
                </a:prstGeom>
                <a:ln cap="sq"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52280" y="3849480"/>
                  <a:ext cx="434340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52280" y="4978080"/>
                  <a:ext cx="434340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52280" y="6095880"/>
                  <a:ext cx="4343400" cy="0"/>
                </a:xfrm>
                <a:prstGeom prst="line">
                  <a:avLst/>
                </a:prstGeom>
                <a:ln cap="sq"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52280" y="2731680"/>
                  <a:ext cx="0" cy="3364200"/>
                </a:xfrm>
                <a:prstGeom prst="line">
                  <a:avLst/>
                </a:prstGeom>
                <a:ln cap="sq"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600200" y="2731680"/>
                  <a:ext cx="0" cy="3364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048120" y="2731680"/>
                  <a:ext cx="0" cy="3364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495680" y="2731680"/>
                  <a:ext cx="0" cy="3364200"/>
                </a:xfrm>
                <a:prstGeom prst="line">
                  <a:avLst/>
                </a:prstGeom>
                <a:ln cap="sq"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52280" y="2731680"/>
                  <a:ext cx="1447920" cy="1117800"/>
                </a:xfrm>
                <a:prstGeom prst="line">
                  <a:avLst/>
                </a:prstGeom>
                <a:ln cap="rnd"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" name=""/>
              <p:cNvSpPr/>
              <p:nvPr/>
            </p:nvSpPr>
            <p:spPr>
              <a:xfrm>
                <a:off x="1665720" y="3047760"/>
                <a:ext cx="13374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66"/>
                    </a:solidFill>
                    <a:latin typeface="Tahoma"/>
                  </a:rPr>
                  <a:t>Bassa cultura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66"/>
                    </a:solidFill>
                    <a:latin typeface="Tahoma"/>
                  </a:rPr>
                  <a:t>del gesto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053520" y="3065400"/>
                <a:ext cx="14655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66"/>
                    </a:solidFill>
                    <a:latin typeface="Tahoma"/>
                  </a:rPr>
                  <a:t>Elevata cultura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66"/>
                    </a:solidFill>
                    <a:latin typeface="Tahoma"/>
                  </a:rPr>
                  <a:t>del gesto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Il “gioco” vincente dei GIPS al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2640" y="6458040"/>
            <a:ext cx="362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Tahoma"/>
              </a:rPr>
              <a:t>Fonte: “I Gips da zero a cento”, rivista Aiaf, aprile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59a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La strada verso i G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Tahoma"/>
              </a:rPr>
              <a:t>1987</a:t>
            </a: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-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prima versione di linee guida di presentazione delle performance pubblicata sul </a:t>
            </a:r>
            <a:r>
              <a:rPr b="0" i="1" lang="it-IT" sz="1800" spc="-1" strike="noStrike">
                <a:solidFill>
                  <a:srgbClr val="000099"/>
                </a:solidFill>
                <a:latin typeface="Tahoma"/>
              </a:rPr>
              <a:t>Financial Analysts Journal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Tahoma"/>
              </a:rPr>
              <a:t>1993</a:t>
            </a: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-</a:t>
            </a: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nascita degli AIMR-Performance Presentation Standard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Tahoma"/>
              </a:rPr>
              <a:t>1993-1996</a:t>
            </a: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-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fase di collaud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Tahoma"/>
              </a:rPr>
              <a:t>1996</a:t>
            </a: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-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costituzione di una commissione FEAAF sugli standard di presentazione delle performan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Tahoma"/>
              </a:rPr>
              <a:t>1997</a:t>
            </a: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-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nuova versione degli standard AIMR-PPS e pubblicazione di un quaderno di ricerca Assogestioni relativ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Tahoma"/>
              </a:rPr>
              <a:t>1999</a:t>
            </a: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-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costituzione dell’ Investment Performance Committe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Tahoma"/>
              </a:rPr>
              <a:t>1999</a:t>
            </a: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-</a:t>
            </a:r>
            <a:r>
              <a:rPr b="0" lang="it-IT" sz="1800" spc="-1" strike="noStrike">
                <a:solidFill>
                  <a:srgbClr val="000099"/>
                </a:solidFill>
                <a:latin typeface="Tahoma"/>
              </a:rPr>
              <a:t> nascita dei Global Investment Performance Standards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59a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Due possibili approcci agli standard internazio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800600" y="1905120"/>
            <a:ext cx="4038480" cy="3276360"/>
            <a:chOff x="4800600" y="1905120"/>
            <a:chExt cx="4038480" cy="3276360"/>
          </a:xfrm>
        </p:grpSpPr>
        <p:sp>
          <p:nvSpPr>
            <p:cNvPr id="51" name=""/>
            <p:cNvSpPr/>
            <p:nvPr/>
          </p:nvSpPr>
          <p:spPr>
            <a:xfrm>
              <a:off x="4800600" y="1905120"/>
              <a:ext cx="40384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57120" y="1987200"/>
              <a:ext cx="396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 u="sng">
                  <a:solidFill>
                    <a:srgbClr val="000066"/>
                  </a:solidFill>
                  <a:uFillTx/>
                  <a:latin typeface="Tahoma"/>
                </a:rPr>
                <a:t>Versione locale dei GIPS (CVG</a:t>
              </a:r>
              <a:r>
                <a:rPr b="1" lang="en-US" sz="2000" spc="-1" strike="noStrike" u="sng">
                  <a:solidFill>
                    <a:srgbClr val="000066"/>
                  </a:solidFill>
                  <a:uFillTx/>
                  <a:latin typeface="Tahom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55680" y="2831760"/>
              <a:ext cx="3699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Tahoma"/>
                </a:rPr>
                <a:t>Testo che si differenzia da quel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Tahoma"/>
                </a:rPr>
                <a:t>internazionale per la presenz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Tahoma"/>
                </a:rPr>
                <a:t>di obblighi o raccomandazio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Tahoma"/>
                </a:rPr>
                <a:t>aggiuntivi, scelta da paesi c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Tahoma"/>
                </a:rPr>
                <a:t>standard interni o norme local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Tahoma"/>
                </a:rPr>
                <a:t>particolari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33520" y="1905120"/>
            <a:ext cx="4038480" cy="3276360"/>
            <a:chOff x="533520" y="1905120"/>
            <a:chExt cx="4038480" cy="3276360"/>
          </a:xfrm>
        </p:grpSpPr>
        <p:sp>
          <p:nvSpPr>
            <p:cNvPr id="55" name=""/>
            <p:cNvSpPr/>
            <p:nvPr/>
          </p:nvSpPr>
          <p:spPr>
            <a:xfrm>
              <a:off x="836280" y="1965240"/>
              <a:ext cx="328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 u="sng">
                  <a:solidFill>
                    <a:srgbClr val="000066"/>
                  </a:solidFill>
                  <a:uFillTx/>
                  <a:latin typeface="Tahoma"/>
                </a:rPr>
                <a:t>Traduzione dei GIPS (T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97400" y="2755800"/>
              <a:ext cx="3504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Tahoma"/>
                </a:rPr>
                <a:t>Traduzione fede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Tahoma"/>
                </a:rPr>
                <a:t>del testo internazional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Tahoma"/>
                </a:rPr>
                <a:t>scelta generalmente d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Tahoma"/>
                </a:rPr>
                <a:t>paesi che non hanno standar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Tahoma"/>
                </a:rPr>
                <a:t>locali, nè normative inter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99"/>
                  </a:solidFill>
                  <a:latin typeface="Tahoma"/>
                </a:rPr>
                <a:t>stringenti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1905120"/>
              <a:ext cx="40384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59a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28600" y="609480"/>
          <a:ext cx="8686800" cy="5867280"/>
        </p:xfrm>
        <a:graphic>
          <a:graphicData uri="http://schemas.openxmlformats.org/drawingml/2006/table">
            <a:tbl>
              <a:tblPr/>
              <a:tblGrid>
                <a:gridCol w="936720"/>
                <a:gridCol w="3711600"/>
                <a:gridCol w="4038480"/>
              </a:tblGrid>
              <a:tr h="502920">
                <a:tc>
                  <a:txBody>
                    <a:bodyPr lIns="76320" rIns="7632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Gips (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ngle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raduzione dei Gips (T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Versione locale dei Gips (CV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4680">
                <a:tc>
                  <a:txBody>
                    <a:bodyPr lIns="76320" rIns="7632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essun ca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Aust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itolo degli Standard </a:t>
                      </a:r>
                      <a:r>
                        <a:rPr b="1" lang="it-IT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-</a:t>
                      </a:r>
                      <a:r>
                        <a:rPr b="1" lang="en-GB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300" spc="-1" strike="noStrike" u="sng">
                          <a:solidFill>
                            <a:srgbClr val="000099"/>
                          </a:solidFill>
                          <a:uFillTx/>
                          <a:latin typeface="Tahoma"/>
                        </a:rPr>
                        <a:t>Austrian</a:t>
                      </a:r>
                      <a:r>
                        <a:rPr b="0" lang="it-IT" sz="1300" spc="-1" strike="noStrike" u="sng">
                          <a:solidFill>
                            <a:srgbClr val="000099"/>
                          </a:solidFill>
                          <a:uFillTx/>
                          <a:latin typeface="Tahoma"/>
                        </a:rPr>
                        <a:t> G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ponsor</a:t>
                      </a:r>
                      <a:r>
                        <a:rPr b="0" lang="it-IT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r>
                        <a:rPr b="0" lang="it-IT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- </a:t>
                      </a:r>
                      <a:r>
                        <a:rPr b="0" lang="nl-NL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sterreichischen Verreinigung Fur Finanzanalyse und Anlageberatung und der Vereinigung Osterreichischer Investmentgesellschaf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ana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itolo degli Standard</a:t>
                      </a:r>
                      <a:r>
                        <a:rPr b="1" lang="it-IT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- </a:t>
                      </a:r>
                      <a:r>
                        <a:rPr b="0" lang="it-IT" sz="1300" spc="-1" strike="noStrike" u="sng">
                          <a:solidFill>
                            <a:srgbClr val="000099"/>
                          </a:solidFill>
                          <a:uFillTx/>
                          <a:latin typeface="Tahoma"/>
                        </a:rPr>
                        <a:t>AIMR-PP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300" spc="-1" strike="noStrike" u="sng">
                          <a:solidFill>
                            <a:srgbClr val="000099"/>
                          </a:solidFill>
                          <a:uFillTx/>
                          <a:latin typeface="Tahoma"/>
                        </a:rPr>
                        <a:t>standards,the U.S. and Canadian Version of G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ponsor</a:t>
                      </a:r>
                      <a:r>
                        <a:rPr b="0" lang="en-CA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-Association for Investment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Management and Resear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76320" rIns="7632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animar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itolo degli Standard</a:t>
                      </a:r>
                      <a:r>
                        <a:rPr b="1" lang="it-IT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- </a:t>
                      </a:r>
                      <a:r>
                        <a:rPr b="0" lang="en-US" sz="1300" spc="-1" strike="noStrike" u="sng">
                          <a:solidFill>
                            <a:srgbClr val="000099"/>
                          </a:solidFill>
                          <a:uFillTx/>
                          <a:latin typeface="Tahoma"/>
                        </a:rPr>
                        <a:t>Danish G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ponsor</a:t>
                      </a: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-Danish Society of Financial Analy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rlan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itolo degli Standard </a:t>
                      </a:r>
                      <a:r>
                        <a:rPr b="1" lang="it-IT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–</a:t>
                      </a:r>
                      <a:r>
                        <a:rPr b="0" lang="en-IE" sz="1300" spc="-1" strike="noStrike" u="sng">
                          <a:solidFill>
                            <a:srgbClr val="000099"/>
                          </a:solidFill>
                          <a:uFillTx/>
                          <a:latin typeface="Tahoma"/>
                        </a:rPr>
                        <a:t>GIPS (Ireland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ponsor</a:t>
                      </a:r>
                      <a:r>
                        <a:rPr b="0" lang="en-IE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-Irish Association of Investment Manage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76320" rIns="7632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Unghe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itolo degli Standard</a:t>
                      </a:r>
                      <a:r>
                        <a:rPr b="1" lang="it-IT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- </a:t>
                      </a:r>
                      <a:r>
                        <a:rPr b="0" lang="en-US" sz="1300" spc="-1" strike="noStrike" u="sng">
                          <a:solidFill>
                            <a:srgbClr val="000099"/>
                          </a:solidFill>
                          <a:uFillTx/>
                          <a:latin typeface="Tahoma"/>
                        </a:rPr>
                        <a:t>Hungarian G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ponsor</a:t>
                      </a: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- Hungarian Society of  Investment Professional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vizz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itolo degli Standard</a:t>
                      </a:r>
                      <a:r>
                        <a:rPr b="1" lang="it-IT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– </a:t>
                      </a:r>
                      <a:r>
                        <a:rPr b="0" lang="en-US" sz="1300" spc="-1" strike="noStrike" u="sng">
                          <a:solidFill>
                            <a:srgbClr val="000099"/>
                          </a:solidFill>
                          <a:uFillTx/>
                          <a:latin typeface="Tahoma"/>
                        </a:rPr>
                        <a:t>Swiss Performance Presentation Standard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ponsor</a:t>
                      </a: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-Swiss Banks Associ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76320" rIns="7632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orveg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itolo degli Standard</a:t>
                      </a:r>
                      <a:r>
                        <a:rPr b="1" lang="it-IT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-</a:t>
                      </a:r>
                      <a:r>
                        <a:rPr b="1" lang="en-US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300" spc="-1" strike="noStrike" u="sng">
                          <a:solidFill>
                            <a:srgbClr val="000099"/>
                          </a:solidFill>
                          <a:uFillTx/>
                          <a:latin typeface="Tahoma"/>
                        </a:rPr>
                        <a:t>Norsk</a:t>
                      </a:r>
                      <a:r>
                        <a:rPr b="0" lang="en-US" sz="1300" spc="-1" strike="noStrike" u="sng">
                          <a:solidFill>
                            <a:srgbClr val="000099"/>
                          </a:solidFill>
                          <a:uFillTx/>
                          <a:latin typeface="Tahoma"/>
                        </a:rPr>
                        <a:t> G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ponsor</a:t>
                      </a: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-The Norwegian Society of Financial Analy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Regno Uni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itolo degli Standard</a:t>
                      </a:r>
                      <a:r>
                        <a:rPr b="1" lang="it-IT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- </a:t>
                      </a:r>
                      <a:r>
                        <a:rPr b="0" lang="it-IT" sz="1300" spc="-1" strike="noStrike" u="sng">
                          <a:solidFill>
                            <a:srgbClr val="000099"/>
                          </a:solidFill>
                          <a:uFillTx/>
                          <a:latin typeface="Tahoma"/>
                        </a:rPr>
                        <a:t>UK Invest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 u="sng">
                          <a:solidFill>
                            <a:srgbClr val="000099"/>
                          </a:solidFill>
                          <a:uFillTx/>
                          <a:latin typeface="Tahoma"/>
                        </a:rPr>
                        <a:t>Performance </a:t>
                      </a:r>
                      <a:r>
                        <a:rPr b="0" lang="en-GB" sz="1300" spc="-1" strike="noStrike" u="sng">
                          <a:solidFill>
                            <a:srgbClr val="000099"/>
                          </a:solidFill>
                          <a:uFillTx/>
                          <a:latin typeface="Tahoma"/>
                        </a:rPr>
                        <a:t>Standard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ponsor</a:t>
                      </a:r>
                      <a:r>
                        <a:rPr b="0" lang="en-GB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-National Association of Pension Finds Lt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76320" rIns="7632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ati Unit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itolo degli Standard</a:t>
                      </a:r>
                      <a:r>
                        <a:rPr b="1" lang="it-IT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- </a:t>
                      </a:r>
                      <a:r>
                        <a:rPr b="0" lang="en-US" sz="1300" spc="-1" strike="noStrike" u="sng">
                          <a:solidFill>
                            <a:srgbClr val="000099"/>
                          </a:solidFill>
                          <a:uFillTx/>
                          <a:latin typeface="Tahoma"/>
                        </a:rPr>
                        <a:t>AIMR-PPS standards, the U.S. and Canadian Version of G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ponsor</a:t>
                      </a: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-Association for Investment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Management and Resear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685800" y="13644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Tahoma"/>
                <a:ea typeface="Arial"/>
              </a:rPr>
              <a:t>Situazione attuale di adozione dei GIPS a livello lo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59a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Gestori conformi ai G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66800" y="4686480"/>
            <a:ext cx="5427720" cy="47520"/>
          </a:xfrm>
          <a:custGeom>
            <a:avLst/>
            <a:gdLst/>
            <a:ahLst/>
            <a:rect l="l" t="t" r="r" b="b"/>
            <a:pathLst>
              <a:path w="3419" h="30">
                <a:moveTo>
                  <a:pt x="0" y="30"/>
                </a:moveTo>
                <a:lnTo>
                  <a:pt x="36" y="0"/>
                </a:lnTo>
                <a:lnTo>
                  <a:pt x="3419" y="0"/>
                </a:lnTo>
                <a:lnTo>
                  <a:pt x="3383" y="30"/>
                </a:lnTo>
                <a:lnTo>
                  <a:pt x="0" y="3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66800" y="1724040"/>
            <a:ext cx="57240" cy="3009960"/>
          </a:xfrm>
          <a:custGeom>
            <a:avLst/>
            <a:gdLst/>
            <a:ahLst/>
            <a:rect l="l" t="t" r="r" b="b"/>
            <a:pathLst>
              <a:path w="36" h="1896">
                <a:moveTo>
                  <a:pt x="0" y="1896"/>
                </a:moveTo>
                <a:lnTo>
                  <a:pt x="0" y="30"/>
                </a:lnTo>
                <a:lnTo>
                  <a:pt x="36" y="0"/>
                </a:lnTo>
                <a:lnTo>
                  <a:pt x="36" y="1866"/>
                </a:lnTo>
                <a:lnTo>
                  <a:pt x="0" y="189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4040" y="1724040"/>
            <a:ext cx="537048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66800" y="4686480"/>
            <a:ext cx="5427720" cy="47520"/>
          </a:xfrm>
          <a:custGeom>
            <a:avLst/>
            <a:gdLst/>
            <a:ahLst/>
            <a:rect l="l" t="t" r="r" b="b"/>
            <a:pathLst>
              <a:path w="570" h="5">
                <a:moveTo>
                  <a:pt x="0" y="5"/>
                </a:moveTo>
                <a:lnTo>
                  <a:pt x="6" y="0"/>
                </a:lnTo>
                <a:lnTo>
                  <a:pt x="57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66800" y="4314960"/>
            <a:ext cx="5427720" cy="47520"/>
          </a:xfrm>
          <a:custGeom>
            <a:avLst/>
            <a:gdLst/>
            <a:ahLst/>
            <a:rect l="l" t="t" r="r" b="b"/>
            <a:pathLst>
              <a:path w="570" h="5">
                <a:moveTo>
                  <a:pt x="0" y="5"/>
                </a:moveTo>
                <a:lnTo>
                  <a:pt x="6" y="0"/>
                </a:lnTo>
                <a:lnTo>
                  <a:pt x="57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66800" y="3943440"/>
            <a:ext cx="5427720" cy="47520"/>
          </a:xfrm>
          <a:custGeom>
            <a:avLst/>
            <a:gdLst/>
            <a:ahLst/>
            <a:rect l="l" t="t" r="r" b="b"/>
            <a:pathLst>
              <a:path w="570" h="5">
                <a:moveTo>
                  <a:pt x="0" y="5"/>
                </a:moveTo>
                <a:lnTo>
                  <a:pt x="6" y="0"/>
                </a:lnTo>
                <a:lnTo>
                  <a:pt x="57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66800" y="3581280"/>
            <a:ext cx="5427720" cy="38160"/>
          </a:xfrm>
          <a:custGeom>
            <a:avLst/>
            <a:gdLst/>
            <a:ahLst/>
            <a:rect l="l" t="t" r="r" b="b"/>
            <a:pathLst>
              <a:path w="570" h="4">
                <a:moveTo>
                  <a:pt x="0" y="4"/>
                </a:moveTo>
                <a:lnTo>
                  <a:pt x="6" y="0"/>
                </a:lnTo>
                <a:lnTo>
                  <a:pt x="57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66800" y="3209760"/>
            <a:ext cx="5427720" cy="38160"/>
          </a:xfrm>
          <a:custGeom>
            <a:avLst/>
            <a:gdLst/>
            <a:ahLst/>
            <a:rect l="l" t="t" r="r" b="b"/>
            <a:pathLst>
              <a:path w="570" h="4">
                <a:moveTo>
                  <a:pt x="0" y="4"/>
                </a:moveTo>
                <a:lnTo>
                  <a:pt x="6" y="0"/>
                </a:lnTo>
                <a:lnTo>
                  <a:pt x="57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66800" y="2838600"/>
            <a:ext cx="5427720" cy="37800"/>
          </a:xfrm>
          <a:custGeom>
            <a:avLst/>
            <a:gdLst/>
            <a:ahLst/>
            <a:rect l="l" t="t" r="r" b="b"/>
            <a:pathLst>
              <a:path w="570" h="4">
                <a:moveTo>
                  <a:pt x="0" y="4"/>
                </a:moveTo>
                <a:lnTo>
                  <a:pt x="6" y="0"/>
                </a:lnTo>
                <a:lnTo>
                  <a:pt x="57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66800" y="2467080"/>
            <a:ext cx="5427720" cy="47520"/>
          </a:xfrm>
          <a:custGeom>
            <a:avLst/>
            <a:gdLst/>
            <a:ahLst/>
            <a:rect l="l" t="t" r="r" b="b"/>
            <a:pathLst>
              <a:path w="570" h="5">
                <a:moveTo>
                  <a:pt x="0" y="5"/>
                </a:moveTo>
                <a:lnTo>
                  <a:pt x="6" y="0"/>
                </a:lnTo>
                <a:lnTo>
                  <a:pt x="57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6800" y="2095560"/>
            <a:ext cx="5427720" cy="47520"/>
          </a:xfrm>
          <a:custGeom>
            <a:avLst/>
            <a:gdLst/>
            <a:ahLst/>
            <a:rect l="l" t="t" r="r" b="b"/>
            <a:pathLst>
              <a:path w="570" h="5">
                <a:moveTo>
                  <a:pt x="0" y="5"/>
                </a:moveTo>
                <a:lnTo>
                  <a:pt x="6" y="0"/>
                </a:lnTo>
                <a:lnTo>
                  <a:pt x="57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66800" y="1733400"/>
            <a:ext cx="5427720" cy="38160"/>
          </a:xfrm>
          <a:custGeom>
            <a:avLst/>
            <a:gdLst/>
            <a:ahLst/>
            <a:rect l="l" t="t" r="r" b="b"/>
            <a:pathLst>
              <a:path w="570" h="4">
                <a:moveTo>
                  <a:pt x="0" y="4"/>
                </a:moveTo>
                <a:lnTo>
                  <a:pt x="6" y="0"/>
                </a:lnTo>
                <a:lnTo>
                  <a:pt x="57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66800" y="4686480"/>
            <a:ext cx="5427720" cy="47520"/>
          </a:xfrm>
          <a:custGeom>
            <a:avLst/>
            <a:gdLst/>
            <a:ahLst/>
            <a:rect l="l" t="t" r="r" b="b"/>
            <a:pathLst>
              <a:path w="3419" h="30">
                <a:moveTo>
                  <a:pt x="3419" y="0"/>
                </a:moveTo>
                <a:lnTo>
                  <a:pt x="3383" y="30"/>
                </a:lnTo>
                <a:lnTo>
                  <a:pt x="0" y="30"/>
                </a:lnTo>
                <a:lnTo>
                  <a:pt x="36" y="0"/>
                </a:lnTo>
                <a:lnTo>
                  <a:pt x="341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6800" y="1724040"/>
            <a:ext cx="57240" cy="3009960"/>
          </a:xfrm>
          <a:custGeom>
            <a:avLst/>
            <a:gdLst/>
            <a:ahLst/>
            <a:rect l="l" t="t" r="r" b="b"/>
            <a:pathLst>
              <a:path w="36" h="1896">
                <a:moveTo>
                  <a:pt x="0" y="1896"/>
                </a:moveTo>
                <a:lnTo>
                  <a:pt x="0" y="30"/>
                </a:lnTo>
                <a:lnTo>
                  <a:pt x="36" y="0"/>
                </a:lnTo>
                <a:lnTo>
                  <a:pt x="36" y="1866"/>
                </a:lnTo>
                <a:lnTo>
                  <a:pt x="0" y="1896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24040" y="1724040"/>
            <a:ext cx="5370480" cy="2962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790640" y="1697040"/>
            <a:ext cx="524160" cy="3026880"/>
            <a:chOff x="1790640" y="1697040"/>
            <a:chExt cx="524160" cy="3026880"/>
          </a:xfrm>
        </p:grpSpPr>
        <p:sp>
          <p:nvSpPr>
            <p:cNvPr id="77" name=""/>
            <p:cNvSpPr/>
            <p:nvPr/>
          </p:nvSpPr>
          <p:spPr>
            <a:xfrm>
              <a:off x="2200320" y="1981080"/>
              <a:ext cx="57240" cy="2742840"/>
            </a:xfrm>
            <a:custGeom>
              <a:avLst/>
              <a:gdLst/>
              <a:ahLst/>
              <a:rect l="l" t="t" r="r" b="b"/>
              <a:pathLst>
                <a:path w="36" h="1728">
                  <a:moveTo>
                    <a:pt x="0" y="1728"/>
                  </a:moveTo>
                  <a:lnTo>
                    <a:pt x="0" y="24"/>
                  </a:lnTo>
                  <a:lnTo>
                    <a:pt x="36" y="0"/>
                  </a:lnTo>
                  <a:lnTo>
                    <a:pt x="36" y="1698"/>
                  </a:lnTo>
                  <a:lnTo>
                    <a:pt x="0" y="1728"/>
                  </a:lnTo>
                  <a:close/>
                </a:path>
              </a:pathLst>
            </a:custGeom>
            <a:solidFill>
              <a:srgbClr val="8080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90640" y="2019240"/>
              <a:ext cx="409680" cy="270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90640" y="1981080"/>
              <a:ext cx="466920" cy="37800"/>
            </a:xfrm>
            <a:custGeom>
              <a:avLst/>
              <a:gdLst/>
              <a:ahLst/>
              <a:rect l="l" t="t" r="r" b="b"/>
              <a:pathLst>
                <a:path w="294" h="24">
                  <a:moveTo>
                    <a:pt x="258" y="24"/>
                  </a:moveTo>
                  <a:lnTo>
                    <a:pt x="294" y="0"/>
                  </a:lnTo>
                  <a:lnTo>
                    <a:pt x="36" y="0"/>
                  </a:lnTo>
                  <a:lnTo>
                    <a:pt x="0" y="24"/>
                  </a:lnTo>
                  <a:lnTo>
                    <a:pt x="258" y="24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56880" y="169704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3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200320" y="1523880"/>
            <a:ext cx="543240" cy="3210120"/>
            <a:chOff x="2200320" y="1523880"/>
            <a:chExt cx="543240" cy="3210120"/>
          </a:xfrm>
        </p:grpSpPr>
        <p:sp>
          <p:nvSpPr>
            <p:cNvPr id="82" name=""/>
            <p:cNvSpPr/>
            <p:nvPr/>
          </p:nvSpPr>
          <p:spPr>
            <a:xfrm>
              <a:off x="2619360" y="1914480"/>
              <a:ext cx="57240" cy="2819520"/>
            </a:xfrm>
            <a:custGeom>
              <a:avLst/>
              <a:gdLst/>
              <a:ahLst/>
              <a:rect l="l" t="t" r="r" b="b"/>
              <a:pathLst>
                <a:path w="36" h="1776">
                  <a:moveTo>
                    <a:pt x="0" y="1776"/>
                  </a:moveTo>
                  <a:lnTo>
                    <a:pt x="0" y="24"/>
                  </a:lnTo>
                  <a:lnTo>
                    <a:pt x="36" y="0"/>
                  </a:lnTo>
                  <a:lnTo>
                    <a:pt x="36" y="1746"/>
                  </a:lnTo>
                  <a:lnTo>
                    <a:pt x="0" y="1776"/>
                  </a:lnTo>
                  <a:close/>
                </a:path>
              </a:pathLst>
            </a:custGeom>
            <a:solidFill>
              <a:srgbClr val="1a1a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00320" y="1952640"/>
              <a:ext cx="419040" cy="2781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00320" y="1914480"/>
              <a:ext cx="476280" cy="38160"/>
            </a:xfrm>
            <a:custGeom>
              <a:avLst/>
              <a:gdLst/>
              <a:ahLst/>
              <a:rect l="l" t="t" r="r" b="b"/>
              <a:pathLst>
                <a:path w="300" h="24">
                  <a:moveTo>
                    <a:pt x="264" y="24"/>
                  </a:moveTo>
                  <a:lnTo>
                    <a:pt x="300" y="0"/>
                  </a:lnTo>
                  <a:lnTo>
                    <a:pt x="36" y="0"/>
                  </a:lnTo>
                  <a:lnTo>
                    <a:pt x="0" y="24"/>
                  </a:lnTo>
                  <a:lnTo>
                    <a:pt x="264" y="24"/>
                  </a:lnTo>
                  <a:close/>
                </a:path>
              </a:pathLst>
            </a:custGeom>
            <a:solidFill>
              <a:srgbClr val="2626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85640" y="152388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5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867040" y="3324240"/>
            <a:ext cx="486000" cy="1409760"/>
            <a:chOff x="2867040" y="3324240"/>
            <a:chExt cx="486000" cy="1409760"/>
          </a:xfrm>
        </p:grpSpPr>
        <p:sp>
          <p:nvSpPr>
            <p:cNvPr id="87" name=""/>
            <p:cNvSpPr/>
            <p:nvPr/>
          </p:nvSpPr>
          <p:spPr>
            <a:xfrm>
              <a:off x="3276720" y="3686040"/>
              <a:ext cx="56880" cy="1047960"/>
            </a:xfrm>
            <a:custGeom>
              <a:avLst/>
              <a:gdLst/>
              <a:ahLst/>
              <a:rect l="l" t="t" r="r" b="b"/>
              <a:pathLst>
                <a:path w="36" h="660">
                  <a:moveTo>
                    <a:pt x="0" y="660"/>
                  </a:moveTo>
                  <a:lnTo>
                    <a:pt x="0" y="30"/>
                  </a:lnTo>
                  <a:lnTo>
                    <a:pt x="36" y="0"/>
                  </a:lnTo>
                  <a:lnTo>
                    <a:pt x="36" y="63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8080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67040" y="3733920"/>
              <a:ext cx="409680" cy="1000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86120" y="3686040"/>
              <a:ext cx="466560" cy="47880"/>
            </a:xfrm>
            <a:custGeom>
              <a:avLst/>
              <a:gdLst/>
              <a:ahLst/>
              <a:rect l="l" t="t" r="r" b="b"/>
              <a:pathLst>
                <a:path w="294" h="30">
                  <a:moveTo>
                    <a:pt x="258" y="30"/>
                  </a:moveTo>
                  <a:lnTo>
                    <a:pt x="294" y="0"/>
                  </a:lnTo>
                  <a:lnTo>
                    <a:pt x="36" y="0"/>
                  </a:lnTo>
                  <a:lnTo>
                    <a:pt x="0" y="30"/>
                  </a:lnTo>
                  <a:lnTo>
                    <a:pt x="258" y="30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95120" y="332424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7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276720" y="3429000"/>
            <a:ext cx="552600" cy="1294920"/>
            <a:chOff x="3276720" y="3429000"/>
            <a:chExt cx="552600" cy="1294920"/>
          </a:xfrm>
        </p:grpSpPr>
        <p:sp>
          <p:nvSpPr>
            <p:cNvPr id="92" name=""/>
            <p:cNvSpPr/>
            <p:nvPr/>
          </p:nvSpPr>
          <p:spPr>
            <a:xfrm>
              <a:off x="3695760" y="3752640"/>
              <a:ext cx="47520" cy="971280"/>
            </a:xfrm>
            <a:custGeom>
              <a:avLst/>
              <a:gdLst/>
              <a:ahLst/>
              <a:rect l="l" t="t" r="r" b="b"/>
              <a:pathLst>
                <a:path w="30" h="612">
                  <a:moveTo>
                    <a:pt x="0" y="612"/>
                  </a:moveTo>
                  <a:lnTo>
                    <a:pt x="0" y="24"/>
                  </a:lnTo>
                  <a:lnTo>
                    <a:pt x="30" y="0"/>
                  </a:lnTo>
                  <a:lnTo>
                    <a:pt x="30" y="582"/>
                  </a:lnTo>
                  <a:lnTo>
                    <a:pt x="0" y="612"/>
                  </a:lnTo>
                  <a:close/>
                </a:path>
              </a:pathLst>
            </a:custGeom>
            <a:solidFill>
              <a:srgbClr val="1a1a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76720" y="3790800"/>
              <a:ext cx="419040" cy="933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76720" y="3752640"/>
              <a:ext cx="466560" cy="37800"/>
            </a:xfrm>
            <a:custGeom>
              <a:avLst/>
              <a:gdLst/>
              <a:ahLst/>
              <a:rect l="l" t="t" r="r" b="b"/>
              <a:pathLst>
                <a:path w="294" h="24">
                  <a:moveTo>
                    <a:pt x="264" y="24"/>
                  </a:moveTo>
                  <a:lnTo>
                    <a:pt x="294" y="0"/>
                  </a:lnTo>
                  <a:lnTo>
                    <a:pt x="36" y="0"/>
                  </a:lnTo>
                  <a:lnTo>
                    <a:pt x="0" y="24"/>
                  </a:lnTo>
                  <a:lnTo>
                    <a:pt x="264" y="24"/>
                  </a:lnTo>
                  <a:close/>
                </a:path>
              </a:pathLst>
            </a:custGeom>
            <a:solidFill>
              <a:srgbClr val="2626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71400" y="342900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943440" y="2762280"/>
            <a:ext cx="505080" cy="1971720"/>
            <a:chOff x="3943440" y="2762280"/>
            <a:chExt cx="505080" cy="1971720"/>
          </a:xfrm>
        </p:grpSpPr>
        <p:sp>
          <p:nvSpPr>
            <p:cNvPr id="97" name=""/>
            <p:cNvSpPr/>
            <p:nvPr/>
          </p:nvSpPr>
          <p:spPr>
            <a:xfrm>
              <a:off x="4352760" y="3095640"/>
              <a:ext cx="57240" cy="1638360"/>
            </a:xfrm>
            <a:custGeom>
              <a:avLst/>
              <a:gdLst/>
              <a:ahLst/>
              <a:rect l="l" t="t" r="r" b="b"/>
              <a:pathLst>
                <a:path w="36" h="1032">
                  <a:moveTo>
                    <a:pt x="0" y="1032"/>
                  </a:moveTo>
                  <a:lnTo>
                    <a:pt x="0" y="30"/>
                  </a:lnTo>
                  <a:lnTo>
                    <a:pt x="36" y="0"/>
                  </a:lnTo>
                  <a:lnTo>
                    <a:pt x="36" y="100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8080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43440" y="3143160"/>
              <a:ext cx="409320" cy="1590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43440" y="3095640"/>
              <a:ext cx="466560" cy="47520"/>
            </a:xfrm>
            <a:custGeom>
              <a:avLst/>
              <a:gdLst/>
              <a:ahLst/>
              <a:rect l="l" t="t" r="r" b="b"/>
              <a:pathLst>
                <a:path w="294" h="30">
                  <a:moveTo>
                    <a:pt x="258" y="30"/>
                  </a:moveTo>
                  <a:lnTo>
                    <a:pt x="294" y="0"/>
                  </a:lnTo>
                  <a:lnTo>
                    <a:pt x="36" y="0"/>
                  </a:lnTo>
                  <a:lnTo>
                    <a:pt x="0" y="30"/>
                  </a:lnTo>
                  <a:lnTo>
                    <a:pt x="258" y="30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90600" y="276228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3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352760" y="3152880"/>
            <a:ext cx="533880" cy="1581120"/>
            <a:chOff x="4352760" y="3152880"/>
            <a:chExt cx="533880" cy="1581120"/>
          </a:xfrm>
        </p:grpSpPr>
        <p:sp>
          <p:nvSpPr>
            <p:cNvPr id="102" name=""/>
            <p:cNvSpPr/>
            <p:nvPr/>
          </p:nvSpPr>
          <p:spPr>
            <a:xfrm>
              <a:off x="4762440" y="3467160"/>
              <a:ext cx="57240" cy="1266840"/>
            </a:xfrm>
            <a:custGeom>
              <a:avLst/>
              <a:gdLst/>
              <a:ahLst/>
              <a:rect l="l" t="t" r="r" b="b"/>
              <a:pathLst>
                <a:path w="36" h="798">
                  <a:moveTo>
                    <a:pt x="0" y="798"/>
                  </a:moveTo>
                  <a:lnTo>
                    <a:pt x="0" y="24"/>
                  </a:lnTo>
                  <a:lnTo>
                    <a:pt x="36" y="0"/>
                  </a:lnTo>
                  <a:lnTo>
                    <a:pt x="36" y="768"/>
                  </a:lnTo>
                  <a:lnTo>
                    <a:pt x="0" y="798"/>
                  </a:lnTo>
                  <a:close/>
                </a:path>
              </a:pathLst>
            </a:custGeom>
            <a:solidFill>
              <a:srgbClr val="1a1a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52760" y="3505320"/>
              <a:ext cx="409680" cy="1228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52760" y="3467160"/>
              <a:ext cx="466920" cy="38160"/>
            </a:xfrm>
            <a:custGeom>
              <a:avLst/>
              <a:gdLst/>
              <a:ahLst/>
              <a:rect l="l" t="t" r="r" b="b"/>
              <a:pathLst>
                <a:path w="294" h="24">
                  <a:moveTo>
                    <a:pt x="258" y="24"/>
                  </a:moveTo>
                  <a:lnTo>
                    <a:pt x="294" y="0"/>
                  </a:lnTo>
                  <a:lnTo>
                    <a:pt x="36" y="0"/>
                  </a:lnTo>
                  <a:lnTo>
                    <a:pt x="0" y="24"/>
                  </a:lnTo>
                  <a:lnTo>
                    <a:pt x="258" y="24"/>
                  </a:lnTo>
                  <a:close/>
                </a:path>
              </a:pathLst>
            </a:custGeom>
            <a:solidFill>
              <a:srgbClr val="2626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28720" y="315288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019840" y="2552760"/>
            <a:ext cx="532080" cy="2181240"/>
            <a:chOff x="5019840" y="2552760"/>
            <a:chExt cx="532080" cy="2181240"/>
          </a:xfrm>
        </p:grpSpPr>
        <p:sp>
          <p:nvSpPr>
            <p:cNvPr id="107" name=""/>
            <p:cNvSpPr/>
            <p:nvPr/>
          </p:nvSpPr>
          <p:spPr>
            <a:xfrm>
              <a:off x="5427720" y="2914560"/>
              <a:ext cx="57240" cy="1819440"/>
            </a:xfrm>
            <a:custGeom>
              <a:avLst/>
              <a:gdLst/>
              <a:ahLst/>
              <a:rect l="l" t="t" r="r" b="b"/>
              <a:pathLst>
                <a:path w="36" h="1146">
                  <a:moveTo>
                    <a:pt x="0" y="1146"/>
                  </a:moveTo>
                  <a:lnTo>
                    <a:pt x="0" y="24"/>
                  </a:lnTo>
                  <a:lnTo>
                    <a:pt x="36" y="0"/>
                  </a:lnTo>
                  <a:lnTo>
                    <a:pt x="36" y="1116"/>
                  </a:lnTo>
                  <a:lnTo>
                    <a:pt x="0" y="1146"/>
                  </a:lnTo>
                  <a:close/>
                </a:path>
              </a:pathLst>
            </a:custGeom>
            <a:solidFill>
              <a:srgbClr val="8080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19840" y="2952720"/>
              <a:ext cx="407880" cy="1781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19840" y="2914560"/>
              <a:ext cx="465120" cy="38160"/>
            </a:xfrm>
            <a:custGeom>
              <a:avLst/>
              <a:gdLst/>
              <a:ahLst/>
              <a:rect l="l" t="t" r="r" b="b"/>
              <a:pathLst>
                <a:path w="293" h="24">
                  <a:moveTo>
                    <a:pt x="257" y="24"/>
                  </a:moveTo>
                  <a:lnTo>
                    <a:pt x="293" y="0"/>
                  </a:lnTo>
                  <a:lnTo>
                    <a:pt x="29" y="0"/>
                  </a:lnTo>
                  <a:lnTo>
                    <a:pt x="0" y="24"/>
                  </a:lnTo>
                  <a:lnTo>
                    <a:pt x="257" y="24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94000" y="255276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8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084720" y="3657600"/>
            <a:ext cx="524520" cy="1076400"/>
            <a:chOff x="6084720" y="3657600"/>
            <a:chExt cx="524520" cy="1076400"/>
          </a:xfrm>
        </p:grpSpPr>
        <p:sp>
          <p:nvSpPr>
            <p:cNvPr id="112" name=""/>
            <p:cNvSpPr/>
            <p:nvPr/>
          </p:nvSpPr>
          <p:spPr>
            <a:xfrm>
              <a:off x="6504120" y="4019400"/>
              <a:ext cx="56880" cy="714600"/>
            </a:xfrm>
            <a:custGeom>
              <a:avLst/>
              <a:gdLst/>
              <a:ahLst/>
              <a:rect l="l" t="t" r="r" b="b"/>
              <a:pathLst>
                <a:path w="36" h="450">
                  <a:moveTo>
                    <a:pt x="0" y="450"/>
                  </a:moveTo>
                  <a:lnTo>
                    <a:pt x="0" y="30"/>
                  </a:lnTo>
                  <a:lnTo>
                    <a:pt x="36" y="0"/>
                  </a:lnTo>
                  <a:lnTo>
                    <a:pt x="36" y="420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8080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84720" y="4067280"/>
              <a:ext cx="419400" cy="666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84720" y="4019400"/>
              <a:ext cx="476280" cy="47880"/>
            </a:xfrm>
            <a:custGeom>
              <a:avLst/>
              <a:gdLst/>
              <a:ahLst/>
              <a:rect l="l" t="t" r="r" b="b"/>
              <a:pathLst>
                <a:path w="300" h="30">
                  <a:moveTo>
                    <a:pt x="264" y="30"/>
                  </a:moveTo>
                  <a:lnTo>
                    <a:pt x="300" y="0"/>
                  </a:lnTo>
                  <a:lnTo>
                    <a:pt x="36" y="0"/>
                  </a:lnTo>
                  <a:lnTo>
                    <a:pt x="0" y="30"/>
                  </a:lnTo>
                  <a:lnTo>
                    <a:pt x="264" y="30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51320" y="365760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8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V="1">
            <a:off x="1666800" y="1771200"/>
            <a:ext cx="1800" cy="296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619280" y="4734000"/>
            <a:ext cx="47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619280" y="4362480"/>
            <a:ext cx="47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619280" y="3990960"/>
            <a:ext cx="47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619280" y="3619440"/>
            <a:ext cx="47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619280" y="3247920"/>
            <a:ext cx="47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619280" y="2876400"/>
            <a:ext cx="47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619280" y="2514600"/>
            <a:ext cx="47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619280" y="2143080"/>
            <a:ext cx="47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9280" y="1771560"/>
            <a:ext cx="47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85560" y="461016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71080" y="423864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71080" y="386712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71080" y="349560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71080" y="312408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71080" y="275256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71080" y="239076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71080" y="201924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71080" y="164772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66800" y="4734000"/>
            <a:ext cx="5370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66800" y="4734000"/>
            <a:ext cx="18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4734000"/>
            <a:ext cx="144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19600" y="4734000"/>
            <a:ext cx="144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86280" y="4734000"/>
            <a:ext cx="18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61240" y="4734000"/>
            <a:ext cx="144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37280" y="4734000"/>
            <a:ext cx="18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28960" y="48387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14560" y="4838760"/>
            <a:ext cx="73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ur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42720" y="4838760"/>
            <a:ext cx="91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80240" y="4838760"/>
            <a:ext cx="94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vizzera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84520" y="483876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27280" y="5105520"/>
            <a:ext cx="64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ong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84920" y="3209760"/>
            <a:ext cx="1285920" cy="5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51880" y="3314880"/>
            <a:ext cx="123840" cy="12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90920" y="3238560"/>
            <a:ext cx="97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0/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51880" y="3610080"/>
            <a:ext cx="123840" cy="123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89480" y="353376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5638680"/>
            <a:ext cx="243828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160" y="5622840"/>
            <a:ext cx="24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*</a:t>
            </a:r>
            <a:r>
              <a:rPr b="1" lang="it-IT" sz="1000" spc="-1" strike="noStrike">
                <a:solidFill>
                  <a:srgbClr val="000066"/>
                </a:solidFill>
                <a:latin typeface="Tahoma"/>
              </a:rPr>
              <a:t>Dati relativi al 2001 non disponibi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8600" y="6537240"/>
            <a:ext cx="67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Tahoma"/>
              </a:rPr>
              <a:t>Fonte: “Apples, Oranges and the Global Investment Performance Standards”, Pwc Edge, volume 4, 2001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59a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Numero di compositi costruiti dai ges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2320" y="6458040"/>
            <a:ext cx="55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Tahoma"/>
              </a:rPr>
              <a:t>Fonte: “2001 Global Trends in Performance Measurement”, PricewaterhouseCoopers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5791320"/>
            <a:ext cx="3276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044000" y="1541520"/>
            <a:ext cx="6611040" cy="3717000"/>
            <a:chOff x="1044000" y="1541520"/>
            <a:chExt cx="6611040" cy="3717000"/>
          </a:xfrm>
        </p:grpSpPr>
        <p:sp>
          <p:nvSpPr>
            <p:cNvPr id="160" name=""/>
            <p:cNvSpPr/>
            <p:nvPr/>
          </p:nvSpPr>
          <p:spPr>
            <a:xfrm>
              <a:off x="1577880" y="4837320"/>
              <a:ext cx="6077160" cy="56880"/>
            </a:xfrm>
            <a:custGeom>
              <a:avLst/>
              <a:gdLst/>
              <a:ahLst/>
              <a:rect l="l" t="t" r="r" b="b"/>
              <a:pathLst>
                <a:path w="3828" h="36">
                  <a:moveTo>
                    <a:pt x="0" y="36"/>
                  </a:moveTo>
                  <a:lnTo>
                    <a:pt x="48" y="0"/>
                  </a:lnTo>
                  <a:lnTo>
                    <a:pt x="3828" y="0"/>
                  </a:lnTo>
                  <a:lnTo>
                    <a:pt x="378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77880" y="1598760"/>
              <a:ext cx="76320" cy="3295440"/>
            </a:xfrm>
            <a:custGeom>
              <a:avLst/>
              <a:gdLst/>
              <a:ahLst/>
              <a:rect l="l" t="t" r="r" b="b"/>
              <a:pathLst>
                <a:path w="48" h="2076">
                  <a:moveTo>
                    <a:pt x="0" y="2076"/>
                  </a:moveTo>
                  <a:lnTo>
                    <a:pt x="0" y="36"/>
                  </a:lnTo>
                  <a:lnTo>
                    <a:pt x="48" y="0"/>
                  </a:lnTo>
                  <a:lnTo>
                    <a:pt x="48" y="2040"/>
                  </a:lnTo>
                  <a:lnTo>
                    <a:pt x="0" y="207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54200" y="1598760"/>
              <a:ext cx="6000840" cy="32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77880" y="4837320"/>
              <a:ext cx="6077160" cy="56880"/>
            </a:xfrm>
            <a:custGeom>
              <a:avLst/>
              <a:gdLst/>
              <a:ahLst/>
              <a:rect l="l" t="t" r="r" b="b"/>
              <a:pathLst>
                <a:path w="638" h="6">
                  <a:moveTo>
                    <a:pt x="0" y="6"/>
                  </a:moveTo>
                  <a:lnTo>
                    <a:pt x="8" y="0"/>
                  </a:lnTo>
                  <a:lnTo>
                    <a:pt x="63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77880" y="4294440"/>
              <a:ext cx="6077160" cy="56880"/>
            </a:xfrm>
            <a:custGeom>
              <a:avLst/>
              <a:gdLst/>
              <a:ahLst/>
              <a:rect l="l" t="t" r="r" b="b"/>
              <a:pathLst>
                <a:path w="638" h="6">
                  <a:moveTo>
                    <a:pt x="0" y="6"/>
                  </a:moveTo>
                  <a:lnTo>
                    <a:pt x="8" y="0"/>
                  </a:lnTo>
                  <a:lnTo>
                    <a:pt x="63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77880" y="3760920"/>
              <a:ext cx="6077160" cy="57240"/>
            </a:xfrm>
            <a:custGeom>
              <a:avLst/>
              <a:gdLst/>
              <a:ahLst/>
              <a:rect l="l" t="t" r="r" b="b"/>
              <a:pathLst>
                <a:path w="638" h="6">
                  <a:moveTo>
                    <a:pt x="0" y="6"/>
                  </a:moveTo>
                  <a:lnTo>
                    <a:pt x="8" y="0"/>
                  </a:lnTo>
                  <a:lnTo>
                    <a:pt x="63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77880" y="3218040"/>
              <a:ext cx="6077160" cy="57240"/>
            </a:xfrm>
            <a:custGeom>
              <a:avLst/>
              <a:gdLst/>
              <a:ahLst/>
              <a:rect l="l" t="t" r="r" b="b"/>
              <a:pathLst>
                <a:path w="638" h="6">
                  <a:moveTo>
                    <a:pt x="0" y="6"/>
                  </a:moveTo>
                  <a:lnTo>
                    <a:pt x="8" y="0"/>
                  </a:lnTo>
                  <a:lnTo>
                    <a:pt x="63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77880" y="2675160"/>
              <a:ext cx="6077160" cy="56880"/>
            </a:xfrm>
            <a:custGeom>
              <a:avLst/>
              <a:gdLst/>
              <a:ahLst/>
              <a:rect l="l" t="t" r="r" b="b"/>
              <a:pathLst>
                <a:path w="638" h="6">
                  <a:moveTo>
                    <a:pt x="0" y="6"/>
                  </a:moveTo>
                  <a:lnTo>
                    <a:pt x="8" y="0"/>
                  </a:lnTo>
                  <a:lnTo>
                    <a:pt x="63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77880" y="2141640"/>
              <a:ext cx="6077160" cy="57240"/>
            </a:xfrm>
            <a:custGeom>
              <a:avLst/>
              <a:gdLst/>
              <a:ahLst/>
              <a:rect l="l" t="t" r="r" b="b"/>
              <a:pathLst>
                <a:path w="638" h="6">
                  <a:moveTo>
                    <a:pt x="0" y="6"/>
                  </a:moveTo>
                  <a:lnTo>
                    <a:pt x="8" y="0"/>
                  </a:lnTo>
                  <a:lnTo>
                    <a:pt x="63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77880" y="1598760"/>
              <a:ext cx="6077160" cy="57240"/>
            </a:xfrm>
            <a:custGeom>
              <a:avLst/>
              <a:gdLst/>
              <a:ahLst/>
              <a:rect l="l" t="t" r="r" b="b"/>
              <a:pathLst>
                <a:path w="638" h="6">
                  <a:moveTo>
                    <a:pt x="0" y="6"/>
                  </a:moveTo>
                  <a:lnTo>
                    <a:pt x="8" y="0"/>
                  </a:lnTo>
                  <a:lnTo>
                    <a:pt x="63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77880" y="4837320"/>
              <a:ext cx="6077160" cy="56880"/>
            </a:xfrm>
            <a:custGeom>
              <a:avLst/>
              <a:gdLst/>
              <a:ahLst/>
              <a:rect l="l" t="t" r="r" b="b"/>
              <a:pathLst>
                <a:path w="3828" h="36">
                  <a:moveTo>
                    <a:pt x="3828" y="0"/>
                  </a:moveTo>
                  <a:lnTo>
                    <a:pt x="3780" y="36"/>
                  </a:lnTo>
                  <a:lnTo>
                    <a:pt x="0" y="36"/>
                  </a:lnTo>
                  <a:lnTo>
                    <a:pt x="48" y="0"/>
                  </a:lnTo>
                  <a:lnTo>
                    <a:pt x="382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77880" y="1598760"/>
              <a:ext cx="76320" cy="3295440"/>
            </a:xfrm>
            <a:custGeom>
              <a:avLst/>
              <a:gdLst/>
              <a:ahLst/>
              <a:rect l="l" t="t" r="r" b="b"/>
              <a:pathLst>
                <a:path w="48" h="2076">
                  <a:moveTo>
                    <a:pt x="0" y="2076"/>
                  </a:moveTo>
                  <a:lnTo>
                    <a:pt x="0" y="36"/>
                  </a:lnTo>
                  <a:lnTo>
                    <a:pt x="48" y="0"/>
                  </a:lnTo>
                  <a:lnTo>
                    <a:pt x="48" y="2040"/>
                  </a:lnTo>
                  <a:lnTo>
                    <a:pt x="0" y="207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54200" y="1598760"/>
              <a:ext cx="6000840" cy="323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1577880" y="1655640"/>
              <a:ext cx="1800" cy="32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530360" y="4894200"/>
              <a:ext cx="4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530360" y="4351320"/>
              <a:ext cx="4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530360" y="3818160"/>
              <a:ext cx="4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530360" y="3275280"/>
              <a:ext cx="4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1530360" y="2732040"/>
              <a:ext cx="4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530360" y="2198880"/>
              <a:ext cx="4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530360" y="1656000"/>
              <a:ext cx="4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58120" y="47800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0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58120" y="423720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5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44000" y="370368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44000" y="316080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15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44000" y="261792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20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44000" y="208440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25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44000" y="154152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30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77880" y="4894200"/>
              <a:ext cx="6000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77880" y="4894200"/>
              <a:ext cx="180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35400" y="4894200"/>
              <a:ext cx="144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92560" y="4894200"/>
              <a:ext cx="144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49720" y="4894200"/>
              <a:ext cx="144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06880" y="4894200"/>
              <a:ext cx="180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64400" y="4894200"/>
              <a:ext cx="144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21560" y="4894200"/>
              <a:ext cx="144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8720" y="4894200"/>
              <a:ext cx="144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53640" y="499896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1-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10800" y="4998960"/>
              <a:ext cx="39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6-1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7960" y="4998960"/>
              <a:ext cx="505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11-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11000" y="4998960"/>
              <a:ext cx="505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21-5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10560" y="499896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51-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10840" y="4998960"/>
              <a:ext cx="72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101-25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0280" y="4998960"/>
              <a:ext cx="44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&gt;25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97040" y="3400560"/>
            <a:ext cx="609840" cy="1495440"/>
            <a:chOff x="2597040" y="3400560"/>
            <a:chExt cx="609840" cy="1495440"/>
          </a:xfrm>
        </p:grpSpPr>
        <p:sp>
          <p:nvSpPr>
            <p:cNvPr id="205" name=""/>
            <p:cNvSpPr/>
            <p:nvPr/>
          </p:nvSpPr>
          <p:spPr>
            <a:xfrm>
              <a:off x="3130560" y="3762720"/>
              <a:ext cx="76320" cy="1133280"/>
            </a:xfrm>
            <a:custGeom>
              <a:avLst/>
              <a:gdLst/>
              <a:ahLst/>
              <a:rect l="l" t="t" r="r" b="b"/>
              <a:pathLst>
                <a:path w="48" h="714">
                  <a:moveTo>
                    <a:pt x="0" y="714"/>
                  </a:moveTo>
                  <a:lnTo>
                    <a:pt x="0" y="36"/>
                  </a:lnTo>
                  <a:lnTo>
                    <a:pt x="48" y="0"/>
                  </a:lnTo>
                  <a:lnTo>
                    <a:pt x="48" y="678"/>
                  </a:lnTo>
                  <a:lnTo>
                    <a:pt x="0" y="714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97040" y="3819960"/>
              <a:ext cx="533520" cy="10760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97040" y="3762720"/>
              <a:ext cx="609840" cy="57240"/>
            </a:xfrm>
            <a:custGeom>
              <a:avLst/>
              <a:gdLst/>
              <a:ahLst/>
              <a:rect l="l" t="t" r="r" b="b"/>
              <a:pathLst>
                <a:path w="384" h="36">
                  <a:moveTo>
                    <a:pt x="336" y="36"/>
                  </a:moveTo>
                  <a:lnTo>
                    <a:pt x="384" y="0"/>
                  </a:lnTo>
                  <a:lnTo>
                    <a:pt x="48" y="0"/>
                  </a:lnTo>
                  <a:lnTo>
                    <a:pt x="0" y="36"/>
                  </a:lnTo>
                  <a:lnTo>
                    <a:pt x="336" y="36"/>
                  </a:lnTo>
                  <a:close/>
                </a:path>
              </a:pathLst>
            </a:custGeom>
            <a:solidFill>
              <a:srgbClr val="732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91720" y="340056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454560" y="2476440"/>
            <a:ext cx="609480" cy="2428560"/>
            <a:chOff x="3454560" y="2476440"/>
            <a:chExt cx="609480" cy="2428560"/>
          </a:xfrm>
        </p:grpSpPr>
        <p:sp>
          <p:nvSpPr>
            <p:cNvPr id="210" name=""/>
            <p:cNvSpPr/>
            <p:nvPr/>
          </p:nvSpPr>
          <p:spPr>
            <a:xfrm>
              <a:off x="3987720" y="2800080"/>
              <a:ext cx="76320" cy="2104920"/>
            </a:xfrm>
            <a:custGeom>
              <a:avLst/>
              <a:gdLst/>
              <a:ahLst/>
              <a:rect l="l" t="t" r="r" b="b"/>
              <a:pathLst>
                <a:path w="48" h="1326">
                  <a:moveTo>
                    <a:pt x="0" y="1326"/>
                  </a:moveTo>
                  <a:lnTo>
                    <a:pt x="0" y="36"/>
                  </a:lnTo>
                  <a:lnTo>
                    <a:pt x="48" y="0"/>
                  </a:lnTo>
                  <a:lnTo>
                    <a:pt x="48" y="1290"/>
                  </a:lnTo>
                  <a:lnTo>
                    <a:pt x="0" y="1326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54560" y="2857320"/>
              <a:ext cx="533160" cy="20476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54560" y="2800080"/>
              <a:ext cx="609480" cy="57240"/>
            </a:xfrm>
            <a:custGeom>
              <a:avLst/>
              <a:gdLst/>
              <a:ahLst/>
              <a:rect l="l" t="t" r="r" b="b"/>
              <a:pathLst>
                <a:path w="384" h="36">
                  <a:moveTo>
                    <a:pt x="336" y="36"/>
                  </a:moveTo>
                  <a:lnTo>
                    <a:pt x="384" y="0"/>
                  </a:lnTo>
                  <a:lnTo>
                    <a:pt x="48" y="0"/>
                  </a:lnTo>
                  <a:lnTo>
                    <a:pt x="0" y="36"/>
                  </a:lnTo>
                  <a:lnTo>
                    <a:pt x="336" y="36"/>
                  </a:lnTo>
                  <a:close/>
                </a:path>
              </a:pathLst>
            </a:custGeom>
            <a:solidFill>
              <a:srgbClr val="732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10720" y="24764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19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311720" y="1676520"/>
            <a:ext cx="609480" cy="3228840"/>
            <a:chOff x="4311720" y="1676520"/>
            <a:chExt cx="609480" cy="3228840"/>
          </a:xfrm>
        </p:grpSpPr>
        <p:sp>
          <p:nvSpPr>
            <p:cNvPr id="215" name=""/>
            <p:cNvSpPr/>
            <p:nvPr/>
          </p:nvSpPr>
          <p:spPr>
            <a:xfrm>
              <a:off x="4844880" y="2038320"/>
              <a:ext cx="76320" cy="2867040"/>
            </a:xfrm>
            <a:custGeom>
              <a:avLst/>
              <a:gdLst/>
              <a:ahLst/>
              <a:rect l="l" t="t" r="r" b="b"/>
              <a:pathLst>
                <a:path w="48" h="1806">
                  <a:moveTo>
                    <a:pt x="0" y="1806"/>
                  </a:moveTo>
                  <a:lnTo>
                    <a:pt x="0" y="36"/>
                  </a:lnTo>
                  <a:lnTo>
                    <a:pt x="48" y="0"/>
                  </a:lnTo>
                  <a:lnTo>
                    <a:pt x="48" y="1770"/>
                  </a:lnTo>
                  <a:lnTo>
                    <a:pt x="0" y="1806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11720" y="2095560"/>
              <a:ext cx="533160" cy="28098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11720" y="2038320"/>
              <a:ext cx="609480" cy="57240"/>
            </a:xfrm>
            <a:custGeom>
              <a:avLst/>
              <a:gdLst/>
              <a:ahLst/>
              <a:rect l="l" t="t" r="r" b="b"/>
              <a:pathLst>
                <a:path w="384" h="36">
                  <a:moveTo>
                    <a:pt x="336" y="36"/>
                  </a:moveTo>
                  <a:lnTo>
                    <a:pt x="384" y="0"/>
                  </a:lnTo>
                  <a:lnTo>
                    <a:pt x="48" y="0"/>
                  </a:lnTo>
                  <a:lnTo>
                    <a:pt x="0" y="36"/>
                  </a:lnTo>
                  <a:lnTo>
                    <a:pt x="336" y="36"/>
                  </a:lnTo>
                  <a:close/>
                </a:path>
              </a:pathLst>
            </a:custGeom>
            <a:solidFill>
              <a:srgbClr val="732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96680" y="167652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26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168880" y="2638440"/>
            <a:ext cx="609480" cy="2266920"/>
            <a:chOff x="5168880" y="2638440"/>
            <a:chExt cx="609480" cy="2266920"/>
          </a:xfrm>
        </p:grpSpPr>
        <p:sp>
          <p:nvSpPr>
            <p:cNvPr id="220" name=""/>
            <p:cNvSpPr/>
            <p:nvPr/>
          </p:nvSpPr>
          <p:spPr>
            <a:xfrm>
              <a:off x="5702400" y="3009960"/>
              <a:ext cx="75960" cy="1895400"/>
            </a:xfrm>
            <a:custGeom>
              <a:avLst/>
              <a:gdLst/>
              <a:ahLst/>
              <a:rect l="l" t="t" r="r" b="b"/>
              <a:pathLst>
                <a:path w="48" h="1194">
                  <a:moveTo>
                    <a:pt x="0" y="1194"/>
                  </a:moveTo>
                  <a:lnTo>
                    <a:pt x="0" y="36"/>
                  </a:lnTo>
                  <a:lnTo>
                    <a:pt x="48" y="0"/>
                  </a:lnTo>
                  <a:lnTo>
                    <a:pt x="48" y="1158"/>
                  </a:lnTo>
                  <a:lnTo>
                    <a:pt x="0" y="1194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68880" y="3067200"/>
              <a:ext cx="533520" cy="18381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68880" y="3009960"/>
              <a:ext cx="609480" cy="57240"/>
            </a:xfrm>
            <a:custGeom>
              <a:avLst/>
              <a:gdLst/>
              <a:ahLst/>
              <a:rect l="l" t="t" r="r" b="b"/>
              <a:pathLst>
                <a:path w="384" h="36">
                  <a:moveTo>
                    <a:pt x="336" y="36"/>
                  </a:moveTo>
                  <a:lnTo>
                    <a:pt x="384" y="0"/>
                  </a:lnTo>
                  <a:lnTo>
                    <a:pt x="48" y="0"/>
                  </a:lnTo>
                  <a:lnTo>
                    <a:pt x="0" y="36"/>
                  </a:lnTo>
                  <a:lnTo>
                    <a:pt x="336" y="36"/>
                  </a:lnTo>
                  <a:close/>
                </a:path>
              </a:pathLst>
            </a:custGeom>
            <a:solidFill>
              <a:srgbClr val="732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44480" y="26384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17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883560" y="4057560"/>
            <a:ext cx="609480" cy="847440"/>
            <a:chOff x="6883560" y="4057560"/>
            <a:chExt cx="609480" cy="847440"/>
          </a:xfrm>
        </p:grpSpPr>
        <p:sp>
          <p:nvSpPr>
            <p:cNvPr id="225" name=""/>
            <p:cNvSpPr/>
            <p:nvPr/>
          </p:nvSpPr>
          <p:spPr>
            <a:xfrm>
              <a:off x="7416720" y="4419360"/>
              <a:ext cx="76320" cy="485640"/>
            </a:xfrm>
            <a:custGeom>
              <a:avLst/>
              <a:gdLst/>
              <a:ahLst/>
              <a:rect l="l" t="t" r="r" b="b"/>
              <a:pathLst>
                <a:path w="48" h="306">
                  <a:moveTo>
                    <a:pt x="0" y="306"/>
                  </a:moveTo>
                  <a:lnTo>
                    <a:pt x="0" y="36"/>
                  </a:lnTo>
                  <a:lnTo>
                    <a:pt x="48" y="0"/>
                  </a:lnTo>
                  <a:lnTo>
                    <a:pt x="48" y="270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83560" y="4476600"/>
              <a:ext cx="533160" cy="428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83560" y="4419360"/>
              <a:ext cx="609480" cy="57240"/>
            </a:xfrm>
            <a:custGeom>
              <a:avLst/>
              <a:gdLst/>
              <a:ahLst/>
              <a:rect l="l" t="t" r="r" b="b"/>
              <a:pathLst>
                <a:path w="384" h="36">
                  <a:moveTo>
                    <a:pt x="336" y="36"/>
                  </a:moveTo>
                  <a:lnTo>
                    <a:pt x="384" y="0"/>
                  </a:lnTo>
                  <a:lnTo>
                    <a:pt x="48" y="0"/>
                  </a:lnTo>
                  <a:lnTo>
                    <a:pt x="0" y="36"/>
                  </a:lnTo>
                  <a:lnTo>
                    <a:pt x="336" y="36"/>
                  </a:lnTo>
                  <a:close/>
                </a:path>
              </a:pathLst>
            </a:custGeom>
            <a:solidFill>
              <a:srgbClr val="732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35120" y="405756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4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739880" y="3914640"/>
            <a:ext cx="609480" cy="961920"/>
            <a:chOff x="1739880" y="3914640"/>
            <a:chExt cx="609480" cy="961920"/>
          </a:xfrm>
        </p:grpSpPr>
        <p:sp>
          <p:nvSpPr>
            <p:cNvPr id="230" name=""/>
            <p:cNvSpPr/>
            <p:nvPr/>
          </p:nvSpPr>
          <p:spPr>
            <a:xfrm>
              <a:off x="2273400" y="4276800"/>
              <a:ext cx="75960" cy="599760"/>
            </a:xfrm>
            <a:custGeom>
              <a:avLst/>
              <a:gdLst/>
              <a:ahLst/>
              <a:rect l="l" t="t" r="r" b="b"/>
              <a:pathLst>
                <a:path w="48" h="378">
                  <a:moveTo>
                    <a:pt x="0" y="378"/>
                  </a:moveTo>
                  <a:lnTo>
                    <a:pt x="0" y="36"/>
                  </a:lnTo>
                  <a:lnTo>
                    <a:pt x="48" y="0"/>
                  </a:lnTo>
                  <a:lnTo>
                    <a:pt x="48" y="342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39880" y="4333680"/>
              <a:ext cx="533520" cy="5428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39880" y="4276800"/>
              <a:ext cx="609480" cy="56880"/>
            </a:xfrm>
            <a:custGeom>
              <a:avLst/>
              <a:gdLst/>
              <a:ahLst/>
              <a:rect l="l" t="t" r="r" b="b"/>
              <a:pathLst>
                <a:path w="384" h="36">
                  <a:moveTo>
                    <a:pt x="336" y="36"/>
                  </a:moveTo>
                  <a:lnTo>
                    <a:pt x="384" y="0"/>
                  </a:lnTo>
                  <a:lnTo>
                    <a:pt x="48" y="0"/>
                  </a:lnTo>
                  <a:lnTo>
                    <a:pt x="0" y="36"/>
                  </a:lnTo>
                  <a:lnTo>
                    <a:pt x="336" y="36"/>
                  </a:lnTo>
                  <a:close/>
                </a:path>
              </a:pathLst>
            </a:custGeom>
            <a:solidFill>
              <a:srgbClr val="732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0240" y="391464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5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019920" y="2362320"/>
            <a:ext cx="609480" cy="2514600"/>
            <a:chOff x="6019920" y="2362320"/>
            <a:chExt cx="609480" cy="2514600"/>
          </a:xfrm>
        </p:grpSpPr>
        <p:sp>
          <p:nvSpPr>
            <p:cNvPr id="235" name=""/>
            <p:cNvSpPr/>
            <p:nvPr/>
          </p:nvSpPr>
          <p:spPr>
            <a:xfrm>
              <a:off x="6553080" y="2772000"/>
              <a:ext cx="75960" cy="2104920"/>
            </a:xfrm>
            <a:custGeom>
              <a:avLst/>
              <a:gdLst/>
              <a:ahLst/>
              <a:rect l="l" t="t" r="r" b="b"/>
              <a:pathLst>
                <a:path w="48" h="1326">
                  <a:moveTo>
                    <a:pt x="0" y="1326"/>
                  </a:moveTo>
                  <a:lnTo>
                    <a:pt x="0" y="36"/>
                  </a:lnTo>
                  <a:lnTo>
                    <a:pt x="48" y="0"/>
                  </a:lnTo>
                  <a:lnTo>
                    <a:pt x="48" y="1290"/>
                  </a:lnTo>
                  <a:lnTo>
                    <a:pt x="0" y="1326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19920" y="2829240"/>
              <a:ext cx="533160" cy="20476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19920" y="2772000"/>
              <a:ext cx="609480" cy="57240"/>
            </a:xfrm>
            <a:custGeom>
              <a:avLst/>
              <a:gdLst/>
              <a:ahLst/>
              <a:rect l="l" t="t" r="r" b="b"/>
              <a:pathLst>
                <a:path w="384" h="36">
                  <a:moveTo>
                    <a:pt x="336" y="36"/>
                  </a:moveTo>
                  <a:lnTo>
                    <a:pt x="384" y="0"/>
                  </a:lnTo>
                  <a:lnTo>
                    <a:pt x="48" y="0"/>
                  </a:lnTo>
                  <a:lnTo>
                    <a:pt x="0" y="36"/>
                  </a:lnTo>
                  <a:lnTo>
                    <a:pt x="336" y="36"/>
                  </a:lnTo>
                  <a:close/>
                </a:path>
              </a:pathLst>
            </a:custGeom>
            <a:solidFill>
              <a:srgbClr val="732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85440" y="236232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19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859a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Calcolo delle performance dei compositi relativo alle com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495800" y="2133720"/>
            <a:ext cx="3576600" cy="3209400"/>
            <a:chOff x="1495800" y="2133720"/>
            <a:chExt cx="3576600" cy="3209400"/>
          </a:xfrm>
        </p:grpSpPr>
        <p:sp>
          <p:nvSpPr>
            <p:cNvPr id="241" name=""/>
            <p:cNvSpPr/>
            <p:nvPr/>
          </p:nvSpPr>
          <p:spPr>
            <a:xfrm>
              <a:off x="1495800" y="2133720"/>
              <a:ext cx="3209040" cy="320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8" y="0"/>
                  </a:moveTo>
                  <a:arcTo wR="10800" hR="10800" stAng="-5410201" swAng="7137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8" y="0"/>
                  </a:moveTo>
                  <a:arcTo wR="10800" hR="10800" stAng="-5410201" swAng="7137497"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61200" y="2629080"/>
              <a:ext cx="51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495800" y="2133000"/>
            <a:ext cx="3401280" cy="3210840"/>
            <a:chOff x="1495800" y="2133000"/>
            <a:chExt cx="3401280" cy="3210840"/>
          </a:xfrm>
        </p:grpSpPr>
        <p:sp>
          <p:nvSpPr>
            <p:cNvPr id="244" name=""/>
            <p:cNvSpPr/>
            <p:nvPr/>
          </p:nvSpPr>
          <p:spPr>
            <a:xfrm>
              <a:off x="1495800" y="2133000"/>
              <a:ext cx="3209040" cy="32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65" y="16001"/>
                  </a:moveTo>
                  <a:arcTo wR="10800" hR="10800" stAng="1727296" swAng="66760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65" y="16001"/>
                  </a:moveTo>
                  <a:arcTo wR="10800" hR="10800" stAng="1727296" swAng="667606"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13680" y="468648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074960" y="2133720"/>
            <a:ext cx="3629160" cy="3209400"/>
            <a:chOff x="1074960" y="2133720"/>
            <a:chExt cx="3629160" cy="3209400"/>
          </a:xfrm>
        </p:grpSpPr>
        <p:sp>
          <p:nvSpPr>
            <p:cNvPr id="247" name=""/>
            <p:cNvSpPr/>
            <p:nvPr/>
          </p:nvSpPr>
          <p:spPr>
            <a:xfrm>
              <a:off x="1495440" y="2133720"/>
              <a:ext cx="3208680" cy="320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84" y="17730"/>
                  </a:moveTo>
                  <a:arcTo wR="10800" hR="10800" stAng="2394902" swAng="13794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84" y="17730"/>
                  </a:moveTo>
                  <a:arcTo wR="10800" hR="10800" stAng="2394902" swAng="13794897"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74960" y="4400640"/>
              <a:ext cx="51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4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5770440" y="2523960"/>
            <a:ext cx="2552760" cy="237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37400" y="2629080"/>
            <a:ext cx="123840" cy="123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24600" y="2552760"/>
            <a:ext cx="207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colo al lordo d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27120" y="2800440"/>
            <a:ext cx="12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iss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37400" y="3419640"/>
            <a:ext cx="123840" cy="12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24960" y="3343320"/>
            <a:ext cx="204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colo al netto d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27120" y="3591000"/>
            <a:ext cx="12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iss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37400" y="4210200"/>
            <a:ext cx="123840" cy="123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24960" y="4133880"/>
            <a:ext cx="224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colo sia al netto 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25320" y="4381560"/>
            <a:ext cx="127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 lordo d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27120" y="4629240"/>
            <a:ext cx="12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iss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2320" y="6458040"/>
            <a:ext cx="55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Tahoma"/>
              </a:rPr>
              <a:t>Fonte: “2001 Global Trends in Performance Measurement”, PricewaterhouseCoopers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59a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Gestori che hanno nei loro compositi fondi comuni o prodotti simil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607040" y="2133720"/>
            <a:ext cx="3933720" cy="3342960"/>
            <a:chOff x="1607040" y="2133720"/>
            <a:chExt cx="3933720" cy="3342960"/>
          </a:xfrm>
        </p:grpSpPr>
        <p:sp>
          <p:nvSpPr>
            <p:cNvPr id="263" name=""/>
            <p:cNvSpPr/>
            <p:nvPr/>
          </p:nvSpPr>
          <p:spPr>
            <a:xfrm>
              <a:off x="1607040" y="2133720"/>
              <a:ext cx="3342600" cy="3342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9" y="0"/>
                  </a:moveTo>
                  <a:arcTo wR="10800" hR="10800" stAng="-5409794" swAng="11055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9" y="0"/>
                  </a:moveTo>
                  <a:arcTo wR="10800" hR="10800" stAng="-5409794" swAng="11055632"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82840" y="376236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1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415520" y="2133360"/>
            <a:ext cx="3533760" cy="3342600"/>
            <a:chOff x="1415520" y="2133360"/>
            <a:chExt cx="3533760" cy="3342600"/>
          </a:xfrm>
        </p:grpSpPr>
        <p:sp>
          <p:nvSpPr>
            <p:cNvPr id="266" name=""/>
            <p:cNvSpPr/>
            <p:nvPr/>
          </p:nvSpPr>
          <p:spPr>
            <a:xfrm>
              <a:off x="1606680" y="2133360"/>
              <a:ext cx="3342600" cy="334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28" y="21572"/>
                  </a:moveTo>
                  <a:arcTo wR="10800" hR="10800" stAng="5645837" swAng="624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28" y="21572"/>
                  </a:moveTo>
                  <a:arcTo wR="10800" hR="10800" stAng="5645837" swAng="6241643"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15520" y="478152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9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606320" y="2133360"/>
            <a:ext cx="3343320" cy="3343320"/>
            <a:chOff x="1606320" y="2133360"/>
            <a:chExt cx="3343320" cy="3343320"/>
          </a:xfrm>
        </p:grpSpPr>
        <p:sp>
          <p:nvSpPr>
            <p:cNvPr id="269" name=""/>
            <p:cNvSpPr/>
            <p:nvPr/>
          </p:nvSpPr>
          <p:spPr>
            <a:xfrm>
              <a:off x="1606320" y="2133360"/>
              <a:ext cx="3343320" cy="334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6" y="7440"/>
                  </a:moveTo>
                  <a:arcTo wR="10800" hR="10800" stAng="-9712519" swAng="3225038"/>
                  <a:lnTo>
                    <a:pt x="10800" y="10800"/>
                  </a:lnTo>
                  <a:close/>
                </a:path>
                <a:path fill="none" w="21600" h="21600">
                  <a:moveTo>
                    <a:pt x="536" y="7440"/>
                  </a:moveTo>
                  <a:arcTo wR="10800" hR="10800" stAng="-9712519" swAng="3225038"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25040" y="228600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604880" y="1809720"/>
            <a:ext cx="3346200" cy="3666600"/>
            <a:chOff x="1604880" y="1809720"/>
            <a:chExt cx="3346200" cy="3666600"/>
          </a:xfrm>
        </p:grpSpPr>
        <p:sp>
          <p:nvSpPr>
            <p:cNvPr id="272" name=""/>
            <p:cNvSpPr/>
            <p:nvPr/>
          </p:nvSpPr>
          <p:spPr>
            <a:xfrm>
              <a:off x="1604880" y="2133720"/>
              <a:ext cx="3346200" cy="334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40" y="536"/>
                  </a:moveTo>
                  <a:arcTo wR="10800" hR="10800" stAng="-6487481" swAng="1077686"/>
                  <a:lnTo>
                    <a:pt x="10800" y="10800"/>
                  </a:lnTo>
                  <a:close/>
                </a:path>
                <a:path fill="none" w="21600" h="21600">
                  <a:moveTo>
                    <a:pt x="7440" y="536"/>
                  </a:moveTo>
                  <a:arcTo wR="10800" hR="10800" stAng="-6487481" swAng="1077686"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87120" y="18097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5807160" y="1800360"/>
            <a:ext cx="2581200" cy="217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73760" y="1905120"/>
            <a:ext cx="123840" cy="123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63840" y="182880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73760" y="2448000"/>
            <a:ext cx="123840" cy="123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09920" y="2371680"/>
            <a:ext cx="27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73760" y="2990880"/>
            <a:ext cx="123840" cy="123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61320" y="2914560"/>
            <a:ext cx="21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alcuni sì, in altri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73760" y="3533760"/>
            <a:ext cx="123840" cy="123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64200" y="3457440"/>
            <a:ext cx="207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/A nessuna gest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61680" y="3705120"/>
            <a:ext cx="230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fondi comuni o sim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2320" y="6458040"/>
            <a:ext cx="55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Tahoma"/>
              </a:rPr>
              <a:t>Fonte: “2001 Global Trends in Performance Measurement”, PricewaterhouseCoopers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59a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66"/>
                </a:solidFill>
                <a:latin typeface="Tahoma"/>
              </a:rPr>
              <a:t>Italia: dalla Commissione Italiana per i GIPS all’ IIP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0T14:23:06Z</dcterms:created>
  <dc:creator>MIRI</dc:creator>
  <dc:description/>
  <dc:language>en-US</dc:language>
  <cp:lastModifiedBy>FANO</cp:lastModifiedBy>
  <dcterms:modified xsi:type="dcterms:W3CDTF">2002-06-10T11:34:48Z</dcterms:modified>
  <cp:revision>32</cp:revision>
  <dc:subject/>
  <dc:title>No Slide Title</dc:title>
</cp:coreProperties>
</file>